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jpeg" ContentType="image/jpeg"/>
  <Override PartName="/ppt/media/image2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6.png" ContentType="image/png"/>
  <Override PartName="/ppt/media/image15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3201-453B-4BAE-9600-57DE18EF9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F998-50E8-43A9-AC74-E22EC1CD9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8C6-3DD9-45DB-BFEC-59AA35B2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A1F-CAC3-4666-95C6-47357575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126-6B51-4037-BE8F-7AFB3BCD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AF1-FC7E-4DB1-88C9-D467F096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682-C0F5-43D3-8394-7CB0F18E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755-FA4D-45B6-AA68-5BE737C5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13A6-9064-4ACB-A46D-13A4A241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350-6EBE-4AF4-88E0-CFC5B64B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827-4F0F-4110-8FC2-BE849E9D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267-ADBD-476E-9362-0612A0F3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C0DD-239A-478C-8890-78646BAC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81A-0865-42A0-B997-48C4B703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2FB6-54DB-4D47-B099-313F0F8E6D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magine 4" descr="Slide 1B -2013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Immagine 1" descr="diapositiva 20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08000" y="5551560"/>
            <a:ext cx="8136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d56622"/>
                </a:solidFill>
                <a:latin typeface="Arial"/>
              </a:rPr>
              <a:t>Il Governo del Costo del Rischio Reputazion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4a8e"/>
                </a:solidFill>
                <a:latin typeface="Arial"/>
              </a:rPr>
              <a:t>Massimiliano Fos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4a8e"/>
                </a:solidFill>
                <a:latin typeface="Arial"/>
              </a:rPr>
              <a:t>Chief Risk Officer Italy – Uni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itolo 2"/>
          <p:cNvSpPr/>
          <p:nvPr/>
        </p:nvSpPr>
        <p:spPr>
          <a:xfrm>
            <a:off x="888840" y="765000"/>
            <a:ext cx="8255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Esempio di contatto diretto o indiretto tra gli stakeholders e la Banca con potenziale Rischio Reputazionale (focus su Clientela Retail Priva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egnaposto numero diapositiva 3"/>
          <p:cNvSpPr/>
          <p:nvPr/>
        </p:nvSpPr>
        <p:spPr>
          <a:xfrm>
            <a:off x="-11160" y="63817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DB0E-1813-43DC-A551-16C19B77A3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egnaposto contenuto 2"/>
          <p:cNvSpPr/>
          <p:nvPr/>
        </p:nvSpPr>
        <p:spPr>
          <a:xfrm>
            <a:off x="1189080" y="1557360"/>
            <a:ext cx="79549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eclamo tipico per frequenza, apparentemente non gravissi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…</a:t>
            </a: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ho conferito con il Sig. A …che, al di là della sua spocchi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mi ha dato un’informazione che non risulta coerente con quella fornitam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in precedenza dal Signor B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Immagine 10" descr=""/>
          <p:cNvPicPr/>
          <p:nvPr/>
        </p:nvPicPr>
        <p:blipFill>
          <a:blip r:embed="rId2"/>
          <a:stretch/>
        </p:blipFill>
        <p:spPr>
          <a:xfrm>
            <a:off x="324000" y="3827520"/>
            <a:ext cx="1384200" cy="2193840"/>
          </a:xfrm>
          <a:prstGeom prst="rect">
            <a:avLst/>
          </a:prstGeom>
          <a:ln w="0">
            <a:noFill/>
          </a:ln>
        </p:spPr>
      </p:pic>
      <p:pic>
        <p:nvPicPr>
          <p:cNvPr id="140" name="Immagine 14" descr=""/>
          <p:cNvPicPr/>
          <p:nvPr/>
        </p:nvPicPr>
        <p:blipFill>
          <a:blip r:embed="rId3"/>
          <a:stretch/>
        </p:blipFill>
        <p:spPr>
          <a:xfrm>
            <a:off x="3268800" y="3543480"/>
            <a:ext cx="1511280" cy="975960"/>
          </a:xfrm>
          <a:prstGeom prst="rect">
            <a:avLst/>
          </a:prstGeom>
          <a:ln w="0">
            <a:noFill/>
          </a:ln>
        </p:spPr>
      </p:pic>
      <p:pic>
        <p:nvPicPr>
          <p:cNvPr id="141" name="Immagine 18" descr=""/>
          <p:cNvPicPr/>
          <p:nvPr/>
        </p:nvPicPr>
        <p:blipFill>
          <a:blip r:embed="rId4"/>
          <a:stretch/>
        </p:blipFill>
        <p:spPr>
          <a:xfrm>
            <a:off x="3279600" y="5092560"/>
            <a:ext cx="1598760" cy="1032120"/>
          </a:xfrm>
          <a:prstGeom prst="rect">
            <a:avLst/>
          </a:prstGeom>
          <a:ln w="0">
            <a:noFill/>
          </a:ln>
        </p:spPr>
      </p:pic>
      <p:sp>
        <p:nvSpPr>
          <p:cNvPr id="142" name="Parentesi graffa chiusa 1"/>
          <p:cNvSpPr/>
          <p:nvPr/>
        </p:nvSpPr>
        <p:spPr>
          <a:xfrm>
            <a:off x="5815080" y="3429000"/>
            <a:ext cx="557280" cy="2808360"/>
          </a:xfrm>
          <a:custGeom>
            <a:avLst/>
            <a:gdLst>
              <a:gd name="textAreaLeft" fmla="*/ 0 w 557280"/>
              <a:gd name="textAreaRight" fmla="*/ 201240 w 557280"/>
              <a:gd name="textAreaTop" fmla="*/ 14400 h 2808360"/>
              <a:gd name="textAreaBottom" fmla="*/ 279396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9"/>
                  <a:pt x="10800" y="358"/>
                </a:cubicBezTo>
                <a:lnTo>
                  <a:pt x="10800" y="10442"/>
                </a:lnTo>
                <a:cubicBezTo>
                  <a:pt x="10800" y="10621"/>
                  <a:pt x="16200" y="10800"/>
                  <a:pt x="21600" y="10800"/>
                </a:cubicBezTo>
                <a:cubicBezTo>
                  <a:pt x="16200" y="10800"/>
                  <a:pt x="10800" y="10979"/>
                  <a:pt x="10800" y="11158"/>
                </a:cubicBezTo>
                <a:lnTo>
                  <a:pt x="10800" y="21242"/>
                </a:lnTo>
                <a:cubicBezTo>
                  <a:pt x="10800" y="2142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d566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tolo 2"/>
          <p:cNvSpPr/>
          <p:nvPr/>
        </p:nvSpPr>
        <p:spPr>
          <a:xfrm>
            <a:off x="4592520" y="3821040"/>
            <a:ext cx="863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56622"/>
                </a:solidFill>
                <a:latin typeface="Arial"/>
                <a:ea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itolo 2"/>
          <p:cNvSpPr/>
          <p:nvPr/>
        </p:nvSpPr>
        <p:spPr>
          <a:xfrm>
            <a:off x="4556160" y="5349960"/>
            <a:ext cx="99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56622"/>
                </a:solidFill>
                <a:latin typeface="Arial"/>
                <a:ea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uppo 9"/>
          <p:cNvGrpSpPr/>
          <p:nvPr/>
        </p:nvGrpSpPr>
        <p:grpSpPr>
          <a:xfrm>
            <a:off x="6227640" y="3573360"/>
            <a:ext cx="2160720" cy="2703600"/>
            <a:chOff x="6227640" y="3573360"/>
            <a:chExt cx="2160720" cy="2703600"/>
          </a:xfrm>
        </p:grpSpPr>
        <p:pic>
          <p:nvPicPr>
            <p:cNvPr id="146" name="Immagine 5" descr=""/>
            <p:cNvPicPr/>
            <p:nvPr/>
          </p:nvPicPr>
          <p:blipFill>
            <a:blip r:embed="rId5"/>
            <a:stretch/>
          </p:blipFill>
          <p:spPr>
            <a:xfrm>
              <a:off x="6587280" y="4869360"/>
              <a:ext cx="1512720" cy="14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itolo 2"/>
            <p:cNvSpPr/>
            <p:nvPr/>
          </p:nvSpPr>
          <p:spPr>
            <a:xfrm>
              <a:off x="6227640" y="3573360"/>
              <a:ext cx="216072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d56622"/>
                  </a:solidFill>
                  <a:latin typeface="Arial"/>
                  <a:ea typeface="Arial"/>
                </a:rPr>
                <a:t>Il Cliente alla medesima domanda riceve una rispo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Fumetto 2 6"/>
          <p:cNvSpPr/>
          <p:nvPr/>
        </p:nvSpPr>
        <p:spPr>
          <a:xfrm>
            <a:off x="1228680" y="2244600"/>
            <a:ext cx="6624720" cy="897120"/>
          </a:xfrm>
          <a:custGeom>
            <a:avLst/>
            <a:gdLst/>
            <a:ahLst/>
            <a:rect l="l" t="t" r="r" b="b"/>
            <a:pathLst>
              <a:path w="6624638" h="896938">
                <a:moveTo>
                  <a:pt x="0" y="149493"/>
                </a:moveTo>
                <a:cubicBezTo>
                  <a:pt x="0" y="66930"/>
                  <a:pt x="66930" y="0"/>
                  <a:pt x="149493" y="0"/>
                </a:cubicBezTo>
                <a:lnTo>
                  <a:pt x="1104106" y="0"/>
                </a:lnTo>
                <a:lnTo>
                  <a:pt x="1104106" y="0"/>
                </a:lnTo>
                <a:lnTo>
                  <a:pt x="2760266" y="0"/>
                </a:lnTo>
                <a:lnTo>
                  <a:pt x="6475145" y="0"/>
                </a:lnTo>
                <a:cubicBezTo>
                  <a:pt x="6557708" y="0"/>
                  <a:pt x="6624638" y="66930"/>
                  <a:pt x="6624638" y="149493"/>
                </a:cubicBezTo>
                <a:lnTo>
                  <a:pt x="6624638" y="523214"/>
                </a:lnTo>
                <a:lnTo>
                  <a:pt x="6624638" y="523214"/>
                </a:lnTo>
                <a:lnTo>
                  <a:pt x="6624638" y="747448"/>
                </a:lnTo>
                <a:lnTo>
                  <a:pt x="6624638" y="747445"/>
                </a:lnTo>
                <a:cubicBezTo>
                  <a:pt x="6624638" y="830008"/>
                  <a:pt x="6557708" y="896938"/>
                  <a:pt x="6475145" y="896938"/>
                </a:cubicBezTo>
                <a:lnTo>
                  <a:pt x="2760266" y="896938"/>
                </a:lnTo>
                <a:lnTo>
                  <a:pt x="11196" y="1594926"/>
                </a:lnTo>
                <a:lnTo>
                  <a:pt x="1104106" y="896938"/>
                </a:lnTo>
                <a:lnTo>
                  <a:pt x="149493" y="896938"/>
                </a:lnTo>
                <a:cubicBezTo>
                  <a:pt x="66930" y="896938"/>
                  <a:pt x="0" y="830008"/>
                  <a:pt x="0" y="747445"/>
                </a:cubicBezTo>
                <a:lnTo>
                  <a:pt x="0" y="747448"/>
                </a:lnTo>
                <a:lnTo>
                  <a:pt x="0" y="523214"/>
                </a:lnTo>
                <a:lnTo>
                  <a:pt x="0" y="523214"/>
                </a:lnTo>
                <a:lnTo>
                  <a:pt x="0" y="149493"/>
                </a:lnTo>
                <a:close/>
              </a:path>
            </a:pathLst>
          </a:custGeom>
          <a:noFill/>
          <a:ln w="9360">
            <a:solidFill>
              <a:srgbClr val="004a8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ccia bidirezionale orizzontale 7"/>
          <p:cNvSpPr/>
          <p:nvPr/>
        </p:nvSpPr>
        <p:spPr>
          <a:xfrm rot="20248200">
            <a:off x="1525680" y="4298760"/>
            <a:ext cx="1852560" cy="485640"/>
          </a:xfrm>
          <a:prstGeom prst="leftRightArrow">
            <a:avLst>
              <a:gd name="adj1" fmla="val 50000"/>
              <a:gd name="adj2" fmla="val 49908"/>
            </a:avLst>
          </a:prstGeom>
          <a:solidFill>
            <a:srgbClr val="d56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ccia bidirezionale orizzontale 24"/>
          <p:cNvSpPr/>
          <p:nvPr/>
        </p:nvSpPr>
        <p:spPr>
          <a:xfrm rot="1260000">
            <a:off x="1544760" y="5005440"/>
            <a:ext cx="1882800" cy="48420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d56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ttangolo 19"/>
          <p:cNvSpPr/>
          <p:nvPr/>
        </p:nvSpPr>
        <p:spPr>
          <a:xfrm>
            <a:off x="108000" y="6237360"/>
            <a:ext cx="180000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4a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d56622"/>
                </a:solidFill>
                <a:latin typeface="Arial"/>
                <a:ea typeface="Arial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ttangolo 20"/>
          <p:cNvSpPr/>
          <p:nvPr/>
        </p:nvSpPr>
        <p:spPr>
          <a:xfrm>
            <a:off x="2327400" y="6237360"/>
            <a:ext cx="33242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4a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d56622"/>
                </a:solidFill>
                <a:latin typeface="Arial"/>
                <a:ea typeface="Arial"/>
              </a:rPr>
              <a:t>Banca o Manda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Segnaposto numero diapositiva 3"/>
          <p:cNvSpPr/>
          <p:nvPr/>
        </p:nvSpPr>
        <p:spPr>
          <a:xfrm>
            <a:off x="-11160" y="6550200"/>
            <a:ext cx="8380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673C-3796-466F-B485-5B011B4B7A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egnaposto contenuto 2"/>
          <p:cNvSpPr/>
          <p:nvPr/>
        </p:nvSpPr>
        <p:spPr>
          <a:xfrm>
            <a:off x="1189080" y="1557360"/>
            <a:ext cx="7954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Oggetto: Minacce telefoniche ed Estor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Immagine 14" descr=""/>
          <p:cNvPicPr/>
          <p:nvPr/>
        </p:nvPicPr>
        <p:blipFill>
          <a:blip r:embed="rId2"/>
          <a:stretch/>
        </p:blipFill>
        <p:spPr>
          <a:xfrm>
            <a:off x="250920" y="4043520"/>
            <a:ext cx="1936800" cy="1250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"/>
          <p:cNvPicPr/>
          <p:nvPr/>
        </p:nvPicPr>
        <p:blipFill>
          <a:blip r:embed="rId3"/>
          <a:stretch/>
        </p:blipFill>
        <p:spPr>
          <a:xfrm>
            <a:off x="6227640" y="3641760"/>
            <a:ext cx="1744920" cy="2171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4"/>
          <a:stretch/>
        </p:blipFill>
        <p:spPr>
          <a:xfrm>
            <a:off x="7667640" y="4721400"/>
            <a:ext cx="1368360" cy="1212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"/>
          <p:cNvPicPr/>
          <p:nvPr/>
        </p:nvPicPr>
        <p:blipFill>
          <a:blip r:embed="rId5"/>
          <a:stretch/>
        </p:blipFill>
        <p:spPr>
          <a:xfrm>
            <a:off x="7800840" y="3838680"/>
            <a:ext cx="1235160" cy="8301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"/>
          <p:cNvPicPr/>
          <p:nvPr/>
        </p:nvPicPr>
        <p:blipFill>
          <a:blip r:embed="rId6"/>
          <a:stretch/>
        </p:blipFill>
        <p:spPr>
          <a:xfrm>
            <a:off x="3419640" y="3357720"/>
            <a:ext cx="1996920" cy="2622240"/>
          </a:xfrm>
          <a:prstGeom prst="rect">
            <a:avLst/>
          </a:prstGeom>
          <a:ln w="0">
            <a:noFill/>
          </a:ln>
        </p:spPr>
      </p:pic>
      <p:sp>
        <p:nvSpPr>
          <p:cNvPr id="161" name="Rettangolo 2"/>
          <p:cNvSpPr/>
          <p:nvPr/>
        </p:nvSpPr>
        <p:spPr>
          <a:xfrm rot="21276000">
            <a:off x="3488040" y="3657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d56622"/>
                </a:solidFill>
                <a:latin typeface="Arial"/>
                <a:ea typeface="Arial"/>
              </a:rPr>
              <a:t>Reclamo Scrit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d56622"/>
                </a:solidFill>
                <a:latin typeface="Arial"/>
                <a:ea typeface="Arial"/>
              </a:rPr>
              <a:t>alla Ban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ccia a destra 1"/>
          <p:cNvSpPr/>
          <p:nvPr/>
        </p:nvSpPr>
        <p:spPr>
          <a:xfrm>
            <a:off x="250920" y="5870520"/>
            <a:ext cx="2016000" cy="7984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d566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4a8e"/>
                </a:solidFill>
                <a:latin typeface="Arial"/>
                <a:ea typeface="Arial"/>
              </a:rPr>
              <a:t>CONTA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ttangolo 6"/>
          <p:cNvSpPr/>
          <p:nvPr/>
        </p:nvSpPr>
        <p:spPr>
          <a:xfrm>
            <a:off x="6937200" y="6073920"/>
            <a:ext cx="172728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d566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4a8e"/>
                </a:solidFill>
                <a:latin typeface="Arial"/>
                <a:ea typeface="Arial"/>
              </a:rPr>
              <a:t>IMPA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ttangolo 7"/>
          <p:cNvSpPr/>
          <p:nvPr/>
        </p:nvSpPr>
        <p:spPr>
          <a:xfrm>
            <a:off x="6516720" y="3548160"/>
            <a:ext cx="2592360" cy="3271680"/>
          </a:xfrm>
          <a:prstGeom prst="rect">
            <a:avLst/>
          </a:prstGeom>
          <a:noFill/>
          <a:ln w="38160">
            <a:solidFill>
              <a:srgbClr val="d566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umetto 2 3"/>
          <p:cNvSpPr/>
          <p:nvPr/>
        </p:nvSpPr>
        <p:spPr>
          <a:xfrm>
            <a:off x="1042920" y="1989000"/>
            <a:ext cx="8066160" cy="1200240"/>
          </a:xfrm>
          <a:custGeom>
            <a:avLst/>
            <a:gdLst/>
            <a:ahLst/>
            <a:rect l="l" t="t" r="r" b="b"/>
            <a:pathLst>
              <a:path w="8066087" h="1200150">
                <a:moveTo>
                  <a:pt x="0" y="200029"/>
                </a:moveTo>
                <a:cubicBezTo>
                  <a:pt x="0" y="89556"/>
                  <a:pt x="89556" y="0"/>
                  <a:pt x="200029" y="0"/>
                </a:cubicBezTo>
                <a:lnTo>
                  <a:pt x="1344348" y="0"/>
                </a:lnTo>
                <a:lnTo>
                  <a:pt x="1344348" y="0"/>
                </a:lnTo>
                <a:lnTo>
                  <a:pt x="3360870" y="0"/>
                </a:lnTo>
                <a:lnTo>
                  <a:pt x="7866058" y="0"/>
                </a:lnTo>
                <a:cubicBezTo>
                  <a:pt x="7976531" y="0"/>
                  <a:pt x="8066087" y="89556"/>
                  <a:pt x="8066087" y="200029"/>
                </a:cubicBezTo>
                <a:lnTo>
                  <a:pt x="8066087" y="700088"/>
                </a:lnTo>
                <a:lnTo>
                  <a:pt x="8066087" y="700088"/>
                </a:lnTo>
                <a:lnTo>
                  <a:pt x="8066087" y="1000125"/>
                </a:lnTo>
                <a:lnTo>
                  <a:pt x="8066087" y="1000121"/>
                </a:lnTo>
                <a:cubicBezTo>
                  <a:pt x="8066087" y="1110594"/>
                  <a:pt x="7976531" y="1200150"/>
                  <a:pt x="7866058" y="1200150"/>
                </a:cubicBezTo>
                <a:lnTo>
                  <a:pt x="3360870" y="1200150"/>
                </a:lnTo>
                <a:lnTo>
                  <a:pt x="3519314" y="1708642"/>
                </a:lnTo>
                <a:lnTo>
                  <a:pt x="1344348" y="1200150"/>
                </a:lnTo>
                <a:lnTo>
                  <a:pt x="200029" y="1200150"/>
                </a:lnTo>
                <a:cubicBezTo>
                  <a:pt x="89556" y="1200150"/>
                  <a:pt x="0" y="1110594"/>
                  <a:pt x="0" y="1000121"/>
                </a:cubicBezTo>
                <a:lnTo>
                  <a:pt x="0" y="1000125"/>
                </a:lnTo>
                <a:lnTo>
                  <a:pt x="0" y="700088"/>
                </a:lnTo>
                <a:lnTo>
                  <a:pt x="0" y="700088"/>
                </a:lnTo>
                <a:lnTo>
                  <a:pt x="0" y="200029"/>
                </a:lnTo>
                <a:close/>
              </a:path>
            </a:pathLst>
          </a:custGeom>
          <a:noFill/>
          <a:ln w="9360">
            <a:solidFill>
              <a:srgbClr val="004a8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ccia a destra 22"/>
          <p:cNvSpPr/>
          <p:nvPr/>
        </p:nvSpPr>
        <p:spPr>
          <a:xfrm>
            <a:off x="3562200" y="5870520"/>
            <a:ext cx="2016360" cy="79848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ffff"/>
          </a:solidFill>
          <a:ln w="25560">
            <a:solidFill>
              <a:srgbClr val="d566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4a8e"/>
                </a:solidFill>
                <a:latin typeface="Arial"/>
                <a:ea typeface="Arial"/>
              </a:rPr>
              <a:t>RE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itolo 2"/>
          <p:cNvSpPr/>
          <p:nvPr/>
        </p:nvSpPr>
        <p:spPr>
          <a:xfrm>
            <a:off x="888840" y="765000"/>
            <a:ext cx="8255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Esempio di contatto diretto o indiretto tra gli stakeholders e la Banca con potenziale Rischio Reputazionale (focus su Clientela Retail Priva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ttangolo 9"/>
          <p:cNvSpPr/>
          <p:nvPr/>
        </p:nvSpPr>
        <p:spPr>
          <a:xfrm>
            <a:off x="1042920" y="19890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Gentili Signori, avendo ricevuto da codesta utenza telefonica minacce di ritorsioni in ordine al mutuo da me sottoscritto con la vostra Banca, ho provveduto a sporgere denuncia c/o Comando Carabinieri ed avviato iter alla Procura della Repubblica con richiesta di acquisizione tabulati telefonic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Segnaposto numero diapositiva 3"/>
          <p:cNvSpPr/>
          <p:nvPr/>
        </p:nvSpPr>
        <p:spPr>
          <a:xfrm>
            <a:off x="-11160" y="640548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FB9D-119F-4660-83B9-68B34BFB4D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egnaposto contenuto 2"/>
          <p:cNvSpPr/>
          <p:nvPr/>
        </p:nvSpPr>
        <p:spPr>
          <a:xfrm>
            <a:off x="1189080" y="1916280"/>
            <a:ext cx="79549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Oggetto: Violazione della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d56622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…</a:t>
            </a: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Trasgredendo a quanto da me richiestovi tramite raccomandata, dove chiedevo di essere contattato solo tramite letter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d56622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… </a:t>
            </a: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una persona da voi delegata mi ha contattato sul mio cellul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d56622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… </a:t>
            </a: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ed è venuta al mio indirizz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d56622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… </a:t>
            </a: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non avendomi trovato, ha addirittura lasciato nella cassetta delle lettere un "volantino" non inserito in busta e visibile da chiunque della mia famigl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d56622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… </a:t>
            </a: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Questa è una palese violazione della mia privacy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Immagine 1" descr=""/>
          <p:cNvPicPr/>
          <p:nvPr/>
        </p:nvPicPr>
        <p:blipFill>
          <a:blip r:embed="rId2"/>
          <a:stretch/>
        </p:blipFill>
        <p:spPr>
          <a:xfrm>
            <a:off x="3419640" y="4508640"/>
            <a:ext cx="1690560" cy="1904760"/>
          </a:xfrm>
          <a:prstGeom prst="rect">
            <a:avLst/>
          </a:prstGeom>
          <a:ln w="0">
            <a:noFill/>
          </a:ln>
        </p:spPr>
      </p:pic>
      <p:pic>
        <p:nvPicPr>
          <p:cNvPr id="173" name="Immagine 5" descr=""/>
          <p:cNvPicPr/>
          <p:nvPr/>
        </p:nvPicPr>
        <p:blipFill>
          <a:blip r:embed="rId3"/>
          <a:stretch/>
        </p:blipFill>
        <p:spPr>
          <a:xfrm>
            <a:off x="1187280" y="4513320"/>
            <a:ext cx="1409760" cy="1900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4"/>
          <a:stretch/>
        </p:blipFill>
        <p:spPr>
          <a:xfrm>
            <a:off x="7149960" y="4508640"/>
            <a:ext cx="1670040" cy="1780920"/>
          </a:xfrm>
          <a:prstGeom prst="rect">
            <a:avLst/>
          </a:prstGeom>
          <a:ln w="0">
            <a:noFill/>
          </a:ln>
        </p:spPr>
      </p:pic>
      <p:sp>
        <p:nvSpPr>
          <p:cNvPr id="175" name="Uguale 10"/>
          <p:cNvSpPr/>
          <p:nvPr/>
        </p:nvSpPr>
        <p:spPr>
          <a:xfrm>
            <a:off x="5651640" y="5035680"/>
            <a:ext cx="720720" cy="574560"/>
          </a:xfrm>
          <a:custGeom>
            <a:avLst/>
            <a:gdLst/>
            <a:ahLst/>
            <a:rect l="l" t="t" r="r" b="b"/>
            <a:pathLst>
              <a:path w="720725" h="574675">
                <a:moveTo>
                  <a:pt x="95532" y="118383"/>
                </a:moveTo>
                <a:lnTo>
                  <a:pt x="625193" y="118383"/>
                </a:lnTo>
                <a:lnTo>
                  <a:pt x="625193" y="253547"/>
                </a:lnTo>
                <a:lnTo>
                  <a:pt x="95532" y="253547"/>
                </a:lnTo>
                <a:lnTo>
                  <a:pt x="95532" y="118383"/>
                </a:lnTo>
                <a:close/>
                <a:moveTo>
                  <a:pt x="95532" y="321128"/>
                </a:moveTo>
                <a:lnTo>
                  <a:pt x="625193" y="321128"/>
                </a:lnTo>
                <a:lnTo>
                  <a:pt x="625193" y="456292"/>
                </a:lnTo>
                <a:lnTo>
                  <a:pt x="95532" y="456292"/>
                </a:lnTo>
                <a:lnTo>
                  <a:pt x="95532" y="321128"/>
                </a:lnTo>
                <a:close/>
              </a:path>
            </a:pathLst>
          </a:custGeom>
          <a:noFill/>
          <a:ln w="25560">
            <a:solidFill>
              <a:srgbClr val="d566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Croce 2"/>
          <p:cNvSpPr/>
          <p:nvPr/>
        </p:nvSpPr>
        <p:spPr>
          <a:xfrm>
            <a:off x="2627280" y="48816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21204" y="349667"/>
                </a:moveTo>
                <a:lnTo>
                  <a:pt x="349667" y="349667"/>
                </a:lnTo>
                <a:lnTo>
                  <a:pt x="349667" y="121204"/>
                </a:lnTo>
                <a:lnTo>
                  <a:pt x="564733" y="121204"/>
                </a:lnTo>
                <a:lnTo>
                  <a:pt x="564733" y="349667"/>
                </a:lnTo>
                <a:lnTo>
                  <a:pt x="793196" y="349667"/>
                </a:lnTo>
                <a:lnTo>
                  <a:pt x="793196" y="564733"/>
                </a:lnTo>
                <a:lnTo>
                  <a:pt x="564733" y="564733"/>
                </a:lnTo>
                <a:lnTo>
                  <a:pt x="564733" y="793196"/>
                </a:lnTo>
                <a:lnTo>
                  <a:pt x="349667" y="793196"/>
                </a:lnTo>
                <a:lnTo>
                  <a:pt x="349667" y="564733"/>
                </a:lnTo>
                <a:lnTo>
                  <a:pt x="121204" y="564733"/>
                </a:lnTo>
                <a:lnTo>
                  <a:pt x="121204" y="349667"/>
                </a:lnTo>
                <a:close/>
              </a:path>
            </a:pathLst>
          </a:custGeom>
          <a:noFill/>
          <a:ln w="28440">
            <a:solidFill>
              <a:srgbClr val="d566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umetto 2 1"/>
          <p:cNvSpPr/>
          <p:nvPr/>
        </p:nvSpPr>
        <p:spPr>
          <a:xfrm>
            <a:off x="1042920" y="2349360"/>
            <a:ext cx="7993080" cy="2159280"/>
          </a:xfrm>
          <a:custGeom>
            <a:avLst/>
            <a:gdLst/>
            <a:ahLst/>
            <a:rect l="l" t="t" r="r" b="b"/>
            <a:pathLst>
              <a:path w="7993062" h="2159000">
                <a:moveTo>
                  <a:pt x="0" y="359841"/>
                </a:moveTo>
                <a:cubicBezTo>
                  <a:pt x="0" y="161106"/>
                  <a:pt x="161106" y="0"/>
                  <a:pt x="359841" y="0"/>
                </a:cubicBezTo>
                <a:lnTo>
                  <a:pt x="4662620" y="0"/>
                </a:lnTo>
                <a:lnTo>
                  <a:pt x="4662620" y="0"/>
                </a:lnTo>
                <a:lnTo>
                  <a:pt x="6660885" y="0"/>
                </a:lnTo>
                <a:lnTo>
                  <a:pt x="7633221" y="0"/>
                </a:lnTo>
                <a:cubicBezTo>
                  <a:pt x="7831956" y="0"/>
                  <a:pt x="7993062" y="161106"/>
                  <a:pt x="7993062" y="359841"/>
                </a:cubicBezTo>
                <a:lnTo>
                  <a:pt x="7993062" y="1259417"/>
                </a:lnTo>
                <a:lnTo>
                  <a:pt x="7993062" y="1259417"/>
                </a:lnTo>
                <a:lnTo>
                  <a:pt x="7993062" y="1799167"/>
                </a:lnTo>
                <a:lnTo>
                  <a:pt x="7993062" y="1799159"/>
                </a:lnTo>
                <a:cubicBezTo>
                  <a:pt x="7993062" y="1997894"/>
                  <a:pt x="7831956" y="2159000"/>
                  <a:pt x="7633221" y="2159000"/>
                </a:cubicBezTo>
                <a:lnTo>
                  <a:pt x="6660885" y="2159000"/>
                </a:lnTo>
                <a:cubicBezTo>
                  <a:pt x="6660530" y="2373338"/>
                  <a:pt x="6660174" y="2587677"/>
                  <a:pt x="6659819" y="2802015"/>
                </a:cubicBezTo>
                <a:lnTo>
                  <a:pt x="4662620" y="2159000"/>
                </a:lnTo>
                <a:lnTo>
                  <a:pt x="359841" y="2159000"/>
                </a:lnTo>
                <a:cubicBezTo>
                  <a:pt x="161106" y="2159000"/>
                  <a:pt x="0" y="1997894"/>
                  <a:pt x="0" y="1799159"/>
                </a:cubicBezTo>
                <a:lnTo>
                  <a:pt x="0" y="1799167"/>
                </a:lnTo>
                <a:lnTo>
                  <a:pt x="0" y="1259417"/>
                </a:lnTo>
                <a:lnTo>
                  <a:pt x="0" y="1259417"/>
                </a:lnTo>
                <a:lnTo>
                  <a:pt x="0" y="359841"/>
                </a:lnTo>
                <a:close/>
              </a:path>
            </a:pathLst>
          </a:custGeom>
          <a:noFill/>
          <a:ln w="9360">
            <a:solidFill>
              <a:srgbClr val="004a8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itolo 2"/>
          <p:cNvSpPr/>
          <p:nvPr/>
        </p:nvSpPr>
        <p:spPr>
          <a:xfrm>
            <a:off x="888840" y="765000"/>
            <a:ext cx="8255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Esempio di contatto diretto o indiretto tra gli stakeholders e la Banca con potenziale Rischio Reputazionale (focus su Clientela Retail Priva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ttangolo 14"/>
          <p:cNvSpPr/>
          <p:nvPr/>
        </p:nvSpPr>
        <p:spPr>
          <a:xfrm>
            <a:off x="1187280" y="6237360"/>
            <a:ext cx="382932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d566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4a8e"/>
                </a:solidFill>
                <a:latin typeface="Arial"/>
                <a:ea typeface="Arial"/>
              </a:rPr>
              <a:t>Banca o Manda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ttangolo 15"/>
          <p:cNvSpPr/>
          <p:nvPr/>
        </p:nvSpPr>
        <p:spPr>
          <a:xfrm>
            <a:off x="6661080" y="6237360"/>
            <a:ext cx="223200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d566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4a8e"/>
                </a:solidFill>
                <a:latin typeface="Arial"/>
                <a:ea typeface="Arial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Segnaposto numero diapositiva 3"/>
          <p:cNvSpPr/>
          <p:nvPr/>
        </p:nvSpPr>
        <p:spPr>
          <a:xfrm>
            <a:off x="-11160" y="63817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C31E-D8E5-48E5-BC20-C0BB6771BD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egnaposto contenuto 2"/>
          <p:cNvSpPr/>
          <p:nvPr/>
        </p:nvSpPr>
        <p:spPr>
          <a:xfrm>
            <a:off x="1081080" y="1484280"/>
            <a:ext cx="79549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Un cliente non soddisfatto pu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Diffondere il proprio malumore a nuovi potenziali clienti o a clienti attu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Intraprendere azioni leg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Attivare Associazioni dei Consum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ivolgersi alle Autorità Garanti (Privacy; Concorrenza e Merca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A prescindere dalla bontà o meno delle ragioni del cliente, tali azioni hanno un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impatto rilevante sulla Reputazione della Banca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itolo 2"/>
          <p:cNvSpPr/>
          <p:nvPr/>
        </p:nvSpPr>
        <p:spPr>
          <a:xfrm>
            <a:off x="888840" y="620640"/>
            <a:ext cx="8147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Il contatto col Cliente nella fase critica di Credit Collection è per sua natura soggetto a un forte Rischio Reput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uppo 2"/>
          <p:cNvGrpSpPr/>
          <p:nvPr/>
        </p:nvGrpSpPr>
        <p:grpSpPr>
          <a:xfrm>
            <a:off x="324000" y="4378320"/>
            <a:ext cx="8340480" cy="2370240"/>
            <a:chOff x="324000" y="4378320"/>
            <a:chExt cx="8340480" cy="2370240"/>
          </a:xfrm>
        </p:grpSpPr>
        <p:pic>
          <p:nvPicPr>
            <p:cNvPr id="186" name="Immagine 29" descr=""/>
            <p:cNvPicPr/>
            <p:nvPr/>
          </p:nvPicPr>
          <p:blipFill>
            <a:blip r:embed="rId2"/>
            <a:stretch/>
          </p:blipFill>
          <p:spPr>
            <a:xfrm>
              <a:off x="611640" y="4378320"/>
              <a:ext cx="1729080" cy="200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Immagine 14" descr=""/>
            <p:cNvPicPr/>
            <p:nvPr/>
          </p:nvPicPr>
          <p:blipFill>
            <a:blip r:embed="rId3"/>
            <a:stretch/>
          </p:blipFill>
          <p:spPr>
            <a:xfrm>
              <a:off x="3214440" y="4854960"/>
              <a:ext cx="121356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Immagine 16" descr=""/>
            <p:cNvPicPr/>
            <p:nvPr/>
          </p:nvPicPr>
          <p:blipFill>
            <a:blip r:embed="rId4"/>
            <a:stretch/>
          </p:blipFill>
          <p:spPr>
            <a:xfrm>
              <a:off x="3311640" y="4542480"/>
              <a:ext cx="1000440" cy="7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Immagine 18" descr=""/>
            <p:cNvPicPr/>
            <p:nvPr/>
          </p:nvPicPr>
          <p:blipFill>
            <a:blip r:embed="rId5"/>
            <a:stretch/>
          </p:blipFill>
          <p:spPr>
            <a:xfrm>
              <a:off x="3026880" y="5456520"/>
              <a:ext cx="12852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Freccia a destra 31"/>
            <p:cNvSpPr/>
            <p:nvPr/>
          </p:nvSpPr>
          <p:spPr>
            <a:xfrm>
              <a:off x="6042240" y="5198040"/>
              <a:ext cx="833760" cy="247320"/>
            </a:xfrm>
            <a:prstGeom prst="rightArrow">
              <a:avLst>
                <a:gd name="adj1" fmla="val 50000"/>
                <a:gd name="adj2" fmla="val 49865"/>
              </a:avLst>
            </a:prstGeom>
            <a:solidFill>
              <a:srgbClr val="d566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Picture 19" descr=""/>
            <p:cNvPicPr/>
            <p:nvPr/>
          </p:nvPicPr>
          <p:blipFill>
            <a:blip r:embed="rId6"/>
            <a:stretch/>
          </p:blipFill>
          <p:spPr>
            <a:xfrm>
              <a:off x="4396680" y="5331960"/>
              <a:ext cx="1122120" cy="7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0" descr=""/>
            <p:cNvPicPr/>
            <p:nvPr/>
          </p:nvPicPr>
          <p:blipFill>
            <a:blip r:embed="rId7"/>
            <a:stretch/>
          </p:blipFill>
          <p:spPr>
            <a:xfrm>
              <a:off x="4263480" y="4613040"/>
              <a:ext cx="1388880" cy="61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16" descr=""/>
            <p:cNvPicPr/>
            <p:nvPr/>
          </p:nvPicPr>
          <p:blipFill>
            <a:blip r:embed="rId8"/>
            <a:stretch/>
          </p:blipFill>
          <p:spPr>
            <a:xfrm>
              <a:off x="6804720" y="4549680"/>
              <a:ext cx="17280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Freccia a destra 1"/>
            <p:cNvSpPr/>
            <p:nvPr/>
          </p:nvSpPr>
          <p:spPr>
            <a:xfrm>
              <a:off x="324000" y="5949720"/>
              <a:ext cx="2376000" cy="798840"/>
            </a:xfrm>
            <a:prstGeom prst="rightArrow">
              <a:avLst>
                <a:gd name="adj1" fmla="val 50000"/>
                <a:gd name="adj2" fmla="val 49930"/>
              </a:avLst>
            </a:prstGeom>
            <a:solidFill>
              <a:srgbClr val="ffffff"/>
            </a:solidFill>
            <a:ln w="25560">
              <a:solidFill>
                <a:srgbClr val="d566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4a8e"/>
                  </a:solidFill>
                  <a:latin typeface="Arial"/>
                  <a:ea typeface="Arial"/>
                </a:rPr>
                <a:t>Reclamo Cl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ttangolo 6"/>
            <p:cNvSpPr/>
            <p:nvPr/>
          </p:nvSpPr>
          <p:spPr>
            <a:xfrm>
              <a:off x="6937560" y="6166080"/>
              <a:ext cx="1726920" cy="432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d566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4a8e"/>
                  </a:solidFill>
                  <a:latin typeface="Arial"/>
                  <a:ea typeface="Arial"/>
                </a:rPr>
                <a:t>Ban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ccia a destra 22"/>
            <p:cNvSpPr/>
            <p:nvPr/>
          </p:nvSpPr>
          <p:spPr>
            <a:xfrm>
              <a:off x="3132000" y="5943240"/>
              <a:ext cx="2910240" cy="798840"/>
            </a:xfrm>
            <a:prstGeom prst="rightArrow">
              <a:avLst>
                <a:gd name="adj1" fmla="val 50000"/>
                <a:gd name="adj2" fmla="val 49941"/>
              </a:avLst>
            </a:prstGeom>
            <a:solidFill>
              <a:srgbClr val="ffffff"/>
            </a:solidFill>
            <a:ln w="25560">
              <a:solidFill>
                <a:srgbClr val="d566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4a8e"/>
                  </a:solidFill>
                  <a:latin typeface="Arial"/>
                  <a:ea typeface="Arial"/>
                </a:rPr>
                <a:t>Media e Autorit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itolo 2"/>
          <p:cNvSpPr/>
          <p:nvPr/>
        </p:nvSpPr>
        <p:spPr>
          <a:xfrm>
            <a:off x="1681200" y="735120"/>
            <a:ext cx="685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UniCredit promuove un approccio inclusivo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Rischio Reputazion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egnaposto numero diapositiva 3"/>
          <p:cNvSpPr/>
          <p:nvPr/>
        </p:nvSpPr>
        <p:spPr>
          <a:xfrm>
            <a:off x="0" y="63817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3DD2-439E-4929-A2D0-8E81A4347A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egnaposto contenuto 2"/>
          <p:cNvSpPr/>
          <p:nvPr/>
        </p:nvSpPr>
        <p:spPr>
          <a:xfrm>
            <a:off x="2698920" y="1655640"/>
            <a:ext cx="64101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L’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Operational and Reputational Risk department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di UniCredit ha il compito di misurare e monitorare tali risch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egnaposto contenuto 2"/>
          <p:cNvSpPr/>
          <p:nvPr/>
        </p:nvSpPr>
        <p:spPr>
          <a:xfrm>
            <a:off x="2773440" y="3286080"/>
            <a:ext cx="6335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Il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Group Operational and Reputational Risk Committee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approva le policy e linee guida volte a garantire uniformità delle regole e pratiche in materia di Rischio Reputazi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egnaposto contenuto 2"/>
          <p:cNvSpPr/>
          <p:nvPr/>
        </p:nvSpPr>
        <p:spPr>
          <a:xfrm>
            <a:off x="2733840" y="4894200"/>
            <a:ext cx="637524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Il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Programma di valutazione della reputazione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è soggetto alla supervisione diretta del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Direttore Generale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ed è volto a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studiare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come gli stakeholders percepiscono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UniCredit,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anche al fine di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prevenire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l’insorgere dei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ischi Reputazionali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Immagine 16" descr=""/>
          <p:cNvPicPr/>
          <p:nvPr/>
        </p:nvPicPr>
        <p:blipFill>
          <a:blip r:embed="rId2"/>
          <a:stretch/>
        </p:blipFill>
        <p:spPr>
          <a:xfrm>
            <a:off x="987480" y="1057320"/>
            <a:ext cx="1771560" cy="1860480"/>
          </a:xfrm>
          <a:prstGeom prst="rect">
            <a:avLst/>
          </a:prstGeom>
          <a:ln w="0">
            <a:noFill/>
          </a:ln>
        </p:spPr>
      </p:pic>
      <p:pic>
        <p:nvPicPr>
          <p:cNvPr id="204" name="Immagine 17" descr=""/>
          <p:cNvPicPr/>
          <p:nvPr/>
        </p:nvPicPr>
        <p:blipFill>
          <a:blip r:embed="rId3"/>
          <a:stretch/>
        </p:blipFill>
        <p:spPr>
          <a:xfrm>
            <a:off x="612720" y="285264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205" name="Immagine 18" descr=""/>
          <p:cNvPicPr/>
          <p:nvPr/>
        </p:nvPicPr>
        <p:blipFill>
          <a:blip r:embed="rId4"/>
          <a:stretch/>
        </p:blipFill>
        <p:spPr>
          <a:xfrm>
            <a:off x="1047600" y="4857840"/>
            <a:ext cx="1651320" cy="136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itolo 2"/>
          <p:cNvSpPr/>
          <p:nvPr/>
        </p:nvSpPr>
        <p:spPr>
          <a:xfrm>
            <a:off x="888840" y="765000"/>
            <a:ext cx="8147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Il Rischio Reputazionale e il Recupero del Cliente … in difficol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3171960" y="1341360"/>
            <a:ext cx="5792760" cy="1484280"/>
          </a:xfrm>
          <a:prstGeom prst="roundRect">
            <a:avLst>
              <a:gd name="adj" fmla="val 0"/>
            </a:avLst>
          </a:prstGeom>
          <a:noFill/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Dipartimento di Credit Monitoring &amp; Collection  Privati che  in UniCredit presid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5662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70 Billion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di  As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5662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300.000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apporti circa ogni m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5662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500 Milioni 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circa di Costo del Risch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1162080" y="3244680"/>
            <a:ext cx="1722240" cy="936720"/>
          </a:xfrm>
          <a:prstGeom prst="rect">
            <a:avLst/>
          </a:prstGeom>
          <a:noFill/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56622"/>
                </a:solidFill>
                <a:latin typeface="Arial"/>
              </a:rPr>
              <a:t>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1146240" y="1341360"/>
            <a:ext cx="1724040" cy="1484280"/>
          </a:xfrm>
          <a:prstGeom prst="rect">
            <a:avLst/>
          </a:prstGeom>
          <a:noFill/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56622"/>
                </a:solidFill>
                <a:latin typeface="Arial"/>
              </a:rPr>
              <a:t>Customer Re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1162080" y="4694400"/>
            <a:ext cx="1722240" cy="1182600"/>
          </a:xfrm>
          <a:prstGeom prst="rect">
            <a:avLst/>
          </a:prstGeom>
          <a:noFill/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56622"/>
                </a:solidFill>
                <a:latin typeface="Arial"/>
              </a:rPr>
              <a:t>Riso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ttangolo 14"/>
          <p:cNvSpPr/>
          <p:nvPr/>
        </p:nvSpPr>
        <p:spPr>
          <a:xfrm>
            <a:off x="1170000" y="3630600"/>
            <a:ext cx="17240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91c4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1"/>
          <p:cNvSpPr/>
          <p:nvPr/>
        </p:nvSpPr>
        <p:spPr>
          <a:xfrm>
            <a:off x="3168720" y="3244680"/>
            <a:ext cx="5792760" cy="936720"/>
          </a:xfrm>
          <a:prstGeom prst="roundRect">
            <a:avLst>
              <a:gd name="adj" fmla="val 0"/>
            </a:avLst>
          </a:prstGeom>
          <a:noFill/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marL="165240" indent="-165240">
              <a:lnSpc>
                <a:spcPct val="100000"/>
              </a:lnSpc>
              <a:buClr>
                <a:srgbClr val="d5662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Agire in ottica di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ecupero d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buClr>
                <a:srgbClr val="d5662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Massimizzare le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Performance di Recup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buClr>
                <a:srgbClr val="d5662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Minimizzare i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ischi Reputazi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3168720" y="4684680"/>
            <a:ext cx="5792760" cy="1192320"/>
          </a:xfrm>
          <a:prstGeom prst="roundRect">
            <a:avLst>
              <a:gd name="adj" fmla="val 0"/>
            </a:avLst>
          </a:prstGeom>
          <a:noFill/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marL="165240" indent="-165240">
              <a:lnSpc>
                <a:spcPct val="100000"/>
              </a:lnSpc>
              <a:buClr>
                <a:srgbClr val="d5662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In House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Dipartimento  fortemente Strutturato, che si avvale di ca 650 Pers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5240" indent="-165240">
              <a:lnSpc>
                <a:spcPct val="100000"/>
              </a:lnSpc>
              <a:buClr>
                <a:srgbClr val="d5662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Outsourcing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con Partner Esterni  professionalmente qualificati nella Tutela del Credito (Unire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7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itolo 2"/>
          <p:cNvSpPr/>
          <p:nvPr/>
        </p:nvSpPr>
        <p:spPr>
          <a:xfrm>
            <a:off x="888840" y="620640"/>
            <a:ext cx="8147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Recupero Crediti e Recl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egnaposto numero diapositiva 3"/>
          <p:cNvSpPr/>
          <p:nvPr/>
        </p:nvSpPr>
        <p:spPr>
          <a:xfrm>
            <a:off x="0" y="63817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B1D9-65E6-4EFA-B3EC-788F32464E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egnaposto contenuto 2"/>
          <p:cNvSpPr/>
          <p:nvPr/>
        </p:nvSpPr>
        <p:spPr>
          <a:xfrm>
            <a:off x="1042920" y="3500280"/>
            <a:ext cx="75470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La Gestione del Rischio di Credito ha imboccato una direzione chi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uppo 9"/>
          <p:cNvGrpSpPr/>
          <p:nvPr/>
        </p:nvGrpSpPr>
        <p:grpSpPr>
          <a:xfrm>
            <a:off x="594720" y="4221000"/>
            <a:ext cx="2343600" cy="1152720"/>
            <a:chOff x="594720" y="4221000"/>
            <a:chExt cx="2343600" cy="1152720"/>
          </a:xfrm>
        </p:grpSpPr>
        <p:sp>
          <p:nvSpPr>
            <p:cNvPr id="220" name="Freccia a destra 1"/>
            <p:cNvSpPr/>
            <p:nvPr/>
          </p:nvSpPr>
          <p:spPr>
            <a:xfrm>
              <a:off x="610920" y="4221000"/>
              <a:ext cx="2327400" cy="1152720"/>
            </a:xfrm>
            <a:prstGeom prst="rightArrow">
              <a:avLst>
                <a:gd name="adj1" fmla="val 50000"/>
                <a:gd name="adj2" fmla="val 49990"/>
              </a:avLst>
            </a:prstGeom>
            <a:noFill/>
            <a:ln w="31680">
              <a:solidFill>
                <a:srgbClr val="d566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CasellaDiTesto 5"/>
            <p:cNvSpPr/>
            <p:nvPr/>
          </p:nvSpPr>
          <p:spPr>
            <a:xfrm>
              <a:off x="594720" y="4611600"/>
              <a:ext cx="20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4a8e"/>
                  </a:solidFill>
                  <a:latin typeface="Arial"/>
                  <a:ea typeface="Arial"/>
                </a:rPr>
                <a:t>Recupero Credi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uppo 7"/>
          <p:cNvGrpSpPr/>
          <p:nvPr/>
        </p:nvGrpSpPr>
        <p:grpSpPr>
          <a:xfrm>
            <a:off x="2989800" y="4235400"/>
            <a:ext cx="2619000" cy="1138320"/>
            <a:chOff x="2989800" y="4235400"/>
            <a:chExt cx="2619000" cy="1138320"/>
          </a:xfrm>
        </p:grpSpPr>
        <p:sp>
          <p:nvSpPr>
            <p:cNvPr id="223" name="Freccia a destra 13"/>
            <p:cNvSpPr/>
            <p:nvPr/>
          </p:nvSpPr>
          <p:spPr>
            <a:xfrm>
              <a:off x="3016080" y="4235400"/>
              <a:ext cx="2592720" cy="1138320"/>
            </a:xfrm>
            <a:prstGeom prst="rightArrow">
              <a:avLst>
                <a:gd name="adj1" fmla="val 50000"/>
                <a:gd name="adj2" fmla="val 50014"/>
              </a:avLst>
            </a:prstGeom>
            <a:noFill/>
            <a:ln w="31680">
              <a:solidFill>
                <a:srgbClr val="d566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CasellaDiTesto 19"/>
            <p:cNvSpPr/>
            <p:nvPr/>
          </p:nvSpPr>
          <p:spPr>
            <a:xfrm>
              <a:off x="2989800" y="4510080"/>
              <a:ext cx="211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4a8e"/>
                  </a:solidFill>
                  <a:latin typeface="Arial"/>
                  <a:ea typeface="Arial"/>
                </a:rPr>
                <a:t>Tutela del Cred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4a8e"/>
                  </a:solidFill>
                  <a:latin typeface="Arial"/>
                  <a:ea typeface="Arial"/>
                </a:rPr>
                <a:t>Tutela del Cli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Gruppo 8"/>
          <p:cNvGrpSpPr/>
          <p:nvPr/>
        </p:nvGrpSpPr>
        <p:grpSpPr>
          <a:xfrm>
            <a:off x="5651640" y="4235400"/>
            <a:ext cx="3225960" cy="1138320"/>
            <a:chOff x="5651640" y="4235400"/>
            <a:chExt cx="3225960" cy="1138320"/>
          </a:xfrm>
        </p:grpSpPr>
        <p:sp>
          <p:nvSpPr>
            <p:cNvPr id="226" name="Rettangolo 2"/>
            <p:cNvSpPr/>
            <p:nvPr/>
          </p:nvSpPr>
          <p:spPr>
            <a:xfrm>
              <a:off x="5651640" y="4235400"/>
              <a:ext cx="3168720" cy="1138320"/>
            </a:xfrm>
            <a:prstGeom prst="rect">
              <a:avLst/>
            </a:prstGeom>
            <a:noFill/>
            <a:ln w="31680">
              <a:solidFill>
                <a:srgbClr val="d566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CasellaDiTesto 20"/>
            <p:cNvSpPr/>
            <p:nvPr/>
          </p:nvSpPr>
          <p:spPr>
            <a:xfrm>
              <a:off x="5716080" y="4365360"/>
              <a:ext cx="316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4a8e"/>
                  </a:solidFill>
                  <a:latin typeface="Arial"/>
                  <a:ea typeface="Arial"/>
                </a:rPr>
                <a:t>Tutela de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4a8e"/>
                  </a:solidFill>
                  <a:latin typeface="Arial"/>
                  <a:ea typeface="Arial"/>
                </a:rPr>
                <a:t>Rischi Reputaziona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uppo 15"/>
          <p:cNvGrpSpPr/>
          <p:nvPr/>
        </p:nvGrpSpPr>
        <p:grpSpPr>
          <a:xfrm>
            <a:off x="1258920" y="1684440"/>
            <a:ext cx="2163600" cy="1600200"/>
            <a:chOff x="1258920" y="1684440"/>
            <a:chExt cx="2163600" cy="1600200"/>
          </a:xfrm>
        </p:grpSpPr>
        <p:grpSp>
          <p:nvGrpSpPr>
            <p:cNvPr id="229" name="Gruppo 7168"/>
            <p:cNvGrpSpPr/>
            <p:nvPr/>
          </p:nvGrpSpPr>
          <p:grpSpPr>
            <a:xfrm>
              <a:off x="1258920" y="1684440"/>
              <a:ext cx="1816560" cy="1600200"/>
              <a:chOff x="1258920" y="1684440"/>
              <a:chExt cx="1816560" cy="1600200"/>
            </a:xfrm>
          </p:grpSpPr>
          <p:pic>
            <p:nvPicPr>
              <p:cNvPr id="230" name="Picture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1258920" y="1684440"/>
                <a:ext cx="1816560" cy="16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CasellaDiTesto 29"/>
              <p:cNvSpPr/>
              <p:nvPr/>
            </p:nvSpPr>
            <p:spPr>
              <a:xfrm rot="16200000">
                <a:off x="1749600" y="22543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Reclam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Triangolo isoscele 7172"/>
            <p:cNvSpPr/>
            <p:nvPr/>
          </p:nvSpPr>
          <p:spPr>
            <a:xfrm rot="5400000">
              <a:off x="2352960" y="2215080"/>
              <a:ext cx="1600200" cy="538560"/>
            </a:xfrm>
            <a:prstGeom prst="triangle">
              <a:avLst>
                <a:gd name="adj" fmla="val 4851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Segnaposto contenuto 2"/>
          <p:cNvSpPr/>
          <p:nvPr/>
        </p:nvSpPr>
        <p:spPr>
          <a:xfrm>
            <a:off x="4111560" y="1943280"/>
            <a:ext cx="49672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d56622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16.000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Reclami su Prodotti Retail Priv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d56622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18%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con impatto su attività di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egnaposto contenuto 2"/>
          <p:cNvSpPr/>
          <p:nvPr/>
        </p:nvSpPr>
        <p:spPr>
          <a:xfrm>
            <a:off x="1692360" y="5373720"/>
            <a:ext cx="64087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2000" spc="-1" strike="noStrike">
                <a:solidFill>
                  <a:srgbClr val="004a8e"/>
                </a:solidFill>
                <a:latin typeface="Arial"/>
                <a:ea typeface="Arial"/>
              </a:rPr>
              <a:t>Lavoriamo insieme per raggiungere l'eccellenza n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2000" spc="-1" strike="noStrike">
                <a:solidFill>
                  <a:srgbClr val="004a8e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004a8e"/>
                </a:solidFill>
                <a:latin typeface="Arial"/>
                <a:ea typeface="Arial"/>
              </a:rPr>
              <a:t>Tutela dei Rischi Reputazionali</a:t>
            </a:r>
            <a:r>
              <a:rPr b="0" lang="it-IT" sz="2000" spc="-1" strike="noStrike">
                <a:solidFill>
                  <a:srgbClr val="004a8e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-9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CasellaDiTesto 1"/>
          <p:cNvSpPr/>
          <p:nvPr/>
        </p:nvSpPr>
        <p:spPr>
          <a:xfrm>
            <a:off x="2484360" y="2708280"/>
            <a:ext cx="4032360" cy="1008360"/>
          </a:xfrm>
          <a:prstGeom prst="rect">
            <a:avLst/>
          </a:prstGeom>
          <a:solidFill>
            <a:srgbClr val="d56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Arial"/>
                <a:ea typeface="Arial"/>
              </a:rPr>
              <a:t>Grazi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CasellaDiTesto 2"/>
          <p:cNvSpPr/>
          <p:nvPr/>
        </p:nvSpPr>
        <p:spPr>
          <a:xfrm>
            <a:off x="2930400" y="4348080"/>
            <a:ext cx="33339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Massimililano Fos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RO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hief Risk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UniCredit S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ttangolo 6"/>
          <p:cNvSpPr/>
          <p:nvPr/>
        </p:nvSpPr>
        <p:spPr>
          <a:xfrm>
            <a:off x="3361680" y="1063800"/>
            <a:ext cx="351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d56622"/>
                </a:solidFill>
                <a:latin typeface="Arial"/>
              </a:rPr>
              <a:t>GRUPPO UNICRED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Immagine 26" descr=""/>
          <p:cNvPicPr/>
          <p:nvPr/>
        </p:nvPicPr>
        <p:blipFill>
          <a:blip r:embed="rId2"/>
          <a:stretch/>
        </p:blipFill>
        <p:spPr>
          <a:xfrm>
            <a:off x="179280" y="1501920"/>
            <a:ext cx="8669520" cy="4951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54" name="Text Box 3"/>
          <p:cNvSpPr/>
          <p:nvPr/>
        </p:nvSpPr>
        <p:spPr>
          <a:xfrm>
            <a:off x="3995640" y="2325600"/>
            <a:ext cx="5040360" cy="2970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040" rIns="131040" tIns="65520" bIns="65520" anchor="t">
            <a:spAutoFit/>
          </a:bodyPr>
          <a:p>
            <a:pPr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60"/>
              </a:lnSpc>
              <a:spcBef>
                <a:spcPts val="451"/>
              </a:spcBef>
              <a:buClr>
                <a:srgbClr val="d56622"/>
              </a:buClr>
              <a:buSzPct val="140000"/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Dipendenti: oltre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131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60"/>
              </a:lnSpc>
              <a:spcBef>
                <a:spcPts val="451"/>
              </a:spcBef>
              <a:buClr>
                <a:srgbClr val="d56622"/>
              </a:buClr>
              <a:buSzPct val="140000"/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Filiali: </a:t>
            </a:r>
            <a:r>
              <a:rPr b="1" lang="en-US" sz="1800" spc="-1" strike="noStrike">
                <a:solidFill>
                  <a:srgbClr val="004a8e"/>
                </a:solidFill>
                <a:latin typeface="Arial"/>
                <a:ea typeface="Arial"/>
              </a:rPr>
              <a:t>7.9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60"/>
              </a:lnSpc>
              <a:spcBef>
                <a:spcPts val="451"/>
              </a:spcBef>
              <a:buClr>
                <a:srgbClr val="d56622"/>
              </a:buClr>
              <a:buSzPct val="140000"/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Operazioni bancarie in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17 pa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60"/>
              </a:lnSpc>
              <a:spcBef>
                <a:spcPts val="451"/>
              </a:spcBef>
              <a:buClr>
                <a:srgbClr val="d56622"/>
              </a:buClr>
              <a:buSzPct val="140000"/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ete internazionale in: ~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50 pa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60"/>
              </a:lnSpc>
              <a:spcBef>
                <a:spcPts val="451"/>
              </a:spcBef>
              <a:buClr>
                <a:srgbClr val="d56622"/>
              </a:buClr>
              <a:buSzPct val="140000"/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179 miliardi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di attività gest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60"/>
              </a:lnSpc>
              <a:spcBef>
                <a:spcPts val="451"/>
              </a:spcBef>
              <a:buClr>
                <a:srgbClr val="d56622"/>
              </a:buClr>
              <a:buSzPct val="140000"/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Leader  nell’Europa centro-orientale (CE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60"/>
              </a:lnSpc>
              <a:spcBef>
                <a:spcPts val="451"/>
              </a:spcBef>
              <a:buClr>
                <a:srgbClr val="d56622"/>
              </a:buClr>
              <a:buSzPct val="140000"/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4a8e"/>
                </a:solidFill>
                <a:latin typeface="Arial"/>
                <a:ea typeface="Arial"/>
              </a:rPr>
              <a:t>Parte delle </a:t>
            </a:r>
            <a:r>
              <a:rPr b="1" lang="en-US" sz="1800" spc="-1" strike="noStrike">
                <a:solidFill>
                  <a:srgbClr val="004a8e"/>
                </a:solidFill>
                <a:latin typeface="Arial"/>
                <a:ea typeface="Arial"/>
              </a:rPr>
              <a:t>28 "G-SIB's"  </a:t>
            </a:r>
            <a:r>
              <a:rPr b="0" lang="en-US" sz="1800" spc="-1" strike="noStrike">
                <a:solidFill>
                  <a:srgbClr val="004a8e"/>
                </a:solidFill>
                <a:latin typeface="Arial"/>
                <a:ea typeface="Arial"/>
              </a:rPr>
              <a:t>Global Systemically  Important Ba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itolo 2"/>
          <p:cNvSpPr/>
          <p:nvPr/>
        </p:nvSpPr>
        <p:spPr>
          <a:xfrm>
            <a:off x="888840" y="620640"/>
            <a:ext cx="8147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Attraverso un processo strutturato di Governance, UniCredit gestisce attivamente l'esposizione del Gruppo nelle aree di Rischio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egnaposto numero diapositiva 3"/>
          <p:cNvSpPr/>
          <p:nvPr/>
        </p:nvSpPr>
        <p:spPr>
          <a:xfrm>
            <a:off x="0" y="63817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7702-2E16-487E-A7C0-D15A2D62A0E8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Pentagono regolare 5"/>
          <p:cNvGrpSpPr/>
          <p:nvPr/>
        </p:nvGrpSpPr>
        <p:grpSpPr>
          <a:xfrm>
            <a:off x="1914480" y="1438200"/>
            <a:ext cx="6254640" cy="5462640"/>
            <a:chOff x="1914480" y="1438200"/>
            <a:chExt cx="6254640" cy="5462640"/>
          </a:xfrm>
        </p:grpSpPr>
        <p:pic>
          <p:nvPicPr>
            <p:cNvPr id="59" name="Pentagono regolare 5" descr=""/>
            <p:cNvPicPr/>
            <p:nvPr/>
          </p:nvPicPr>
          <p:blipFill>
            <a:blip r:embed="rId2"/>
            <a:stretch/>
          </p:blipFill>
          <p:spPr>
            <a:xfrm>
              <a:off x="1914480" y="1438200"/>
              <a:ext cx="6254640" cy="54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149640" y="2712960"/>
              <a:ext cx="3782880" cy="40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it-IT" sz="6600" spc="-1" strike="noStrike">
                  <a:solidFill>
                    <a:srgbClr val="004a8e"/>
                  </a:solidFill>
                  <a:latin typeface="Arial"/>
                  <a:ea typeface="Arial"/>
                </a:rPr>
                <a:t>RISCHIO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uppo 13"/>
          <p:cNvGrpSpPr/>
          <p:nvPr/>
        </p:nvGrpSpPr>
        <p:grpSpPr>
          <a:xfrm>
            <a:off x="1974600" y="782280"/>
            <a:ext cx="3811680" cy="3552120"/>
            <a:chOff x="1974600" y="782280"/>
            <a:chExt cx="3811680" cy="3552120"/>
          </a:xfrm>
        </p:grpSpPr>
        <p:sp>
          <p:nvSpPr>
            <p:cNvPr id="62" name="Triangolo isoscele 9"/>
            <p:cNvSpPr/>
            <p:nvPr/>
          </p:nvSpPr>
          <p:spPr>
            <a:xfrm rot="924000">
              <a:off x="2290320" y="1153800"/>
              <a:ext cx="3179880" cy="2808360"/>
            </a:xfrm>
            <a:prstGeom prst="triangle">
              <a:avLst>
                <a:gd name="adj" fmla="val 76884"/>
              </a:avLst>
            </a:prstGeom>
            <a:solidFill>
              <a:srgbClr val="ffffff"/>
            </a:solidFill>
            <a:ln w="38160">
              <a:solidFill>
                <a:srgbClr val="d566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CasellaDiTesto 11"/>
            <p:cNvSpPr/>
            <p:nvPr/>
          </p:nvSpPr>
          <p:spPr>
            <a:xfrm rot="19432200">
              <a:off x="3128760" y="2745000"/>
              <a:ext cx="150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4a8e"/>
                  </a:solidFill>
                  <a:latin typeface="Arial"/>
                  <a:ea typeface="Arial"/>
                </a:rPr>
                <a:t>Oper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uppo 11"/>
          <p:cNvGrpSpPr/>
          <p:nvPr/>
        </p:nvGrpSpPr>
        <p:grpSpPr>
          <a:xfrm>
            <a:off x="4464360" y="2598480"/>
            <a:ext cx="3650760" cy="4186080"/>
            <a:chOff x="4464360" y="2598480"/>
            <a:chExt cx="3650760" cy="4186080"/>
          </a:xfrm>
        </p:grpSpPr>
        <p:sp>
          <p:nvSpPr>
            <p:cNvPr id="65" name="Triangolo isoscele 8"/>
            <p:cNvSpPr/>
            <p:nvPr/>
          </p:nvSpPr>
          <p:spPr>
            <a:xfrm rot="17389800">
              <a:off x="4536000" y="3383280"/>
              <a:ext cx="3506760" cy="2616120"/>
            </a:xfrm>
            <a:prstGeom prst="triangle">
              <a:avLst>
                <a:gd name="adj" fmla="val 46694"/>
              </a:avLst>
            </a:prstGeom>
            <a:solidFill>
              <a:srgbClr val="ffffff"/>
            </a:solidFill>
            <a:ln w="38160">
              <a:solidFill>
                <a:srgbClr val="d566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CasellaDiTesto 12"/>
            <p:cNvSpPr/>
            <p:nvPr/>
          </p:nvSpPr>
          <p:spPr>
            <a:xfrm rot="17398200">
              <a:off x="6084000" y="466704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4a8e"/>
                  </a:solidFill>
                  <a:latin typeface="Arial"/>
                  <a:ea typeface="Arial"/>
                </a:rPr>
                <a:t>Liquidit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uppo 2"/>
          <p:cNvGrpSpPr/>
          <p:nvPr/>
        </p:nvGrpSpPr>
        <p:grpSpPr>
          <a:xfrm>
            <a:off x="3159000" y="4338720"/>
            <a:ext cx="3762360" cy="2448000"/>
            <a:chOff x="3159000" y="4338720"/>
            <a:chExt cx="3762360" cy="2448000"/>
          </a:xfrm>
        </p:grpSpPr>
        <p:sp>
          <p:nvSpPr>
            <p:cNvPr id="68" name="Triangolo isoscele 6"/>
            <p:cNvSpPr/>
            <p:nvPr/>
          </p:nvSpPr>
          <p:spPr>
            <a:xfrm>
              <a:off x="3159000" y="4338720"/>
              <a:ext cx="3762360" cy="2448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d566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CasellaDiTesto 13"/>
            <p:cNvSpPr/>
            <p:nvPr/>
          </p:nvSpPr>
          <p:spPr>
            <a:xfrm>
              <a:off x="4474800" y="58118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4a8e"/>
                  </a:solidFill>
                  <a:latin typeface="Arial"/>
                  <a:ea typeface="Arial"/>
                </a:rPr>
                <a:t>Credi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uppo 1"/>
          <p:cNvGrpSpPr/>
          <p:nvPr/>
        </p:nvGrpSpPr>
        <p:grpSpPr>
          <a:xfrm>
            <a:off x="1980720" y="2612520"/>
            <a:ext cx="3603960" cy="4174920"/>
            <a:chOff x="1980720" y="2612520"/>
            <a:chExt cx="3603960" cy="4174920"/>
          </a:xfrm>
        </p:grpSpPr>
        <p:sp>
          <p:nvSpPr>
            <p:cNvPr id="71" name="Triangolo isoscele 7"/>
            <p:cNvSpPr/>
            <p:nvPr/>
          </p:nvSpPr>
          <p:spPr>
            <a:xfrm rot="4234200">
              <a:off x="2024280" y="3409200"/>
              <a:ext cx="3516480" cy="2581200"/>
            </a:xfrm>
            <a:prstGeom prst="triangle">
              <a:avLst>
                <a:gd name="adj" fmla="val 52199"/>
              </a:avLst>
            </a:prstGeom>
            <a:solidFill>
              <a:srgbClr val="ffffff"/>
            </a:solidFill>
            <a:ln w="38160">
              <a:solidFill>
                <a:srgbClr val="d566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CasellaDiTesto 14"/>
            <p:cNvSpPr/>
            <p:nvPr/>
          </p:nvSpPr>
          <p:spPr>
            <a:xfrm rot="15043200">
              <a:off x="2632680" y="457776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4a8e"/>
                  </a:solidFill>
                  <a:latin typeface="Arial"/>
                  <a:ea typeface="Arial"/>
                </a:rPr>
                <a:t>Merca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uppo 12"/>
          <p:cNvGrpSpPr/>
          <p:nvPr/>
        </p:nvGrpSpPr>
        <p:grpSpPr>
          <a:xfrm>
            <a:off x="4270320" y="785520"/>
            <a:ext cx="3838680" cy="3591360"/>
            <a:chOff x="4270320" y="785520"/>
            <a:chExt cx="3838680" cy="3591360"/>
          </a:xfrm>
        </p:grpSpPr>
        <p:sp>
          <p:nvSpPr>
            <p:cNvPr id="74" name="Triangolo isoscele 10"/>
            <p:cNvSpPr/>
            <p:nvPr/>
          </p:nvSpPr>
          <p:spPr>
            <a:xfrm rot="20633400">
              <a:off x="4599000" y="1171440"/>
              <a:ext cx="3181320" cy="2819520"/>
            </a:xfrm>
            <a:prstGeom prst="triangle">
              <a:avLst>
                <a:gd name="adj" fmla="val 26741"/>
              </a:avLst>
            </a:prstGeom>
            <a:solidFill>
              <a:srgbClr val="ffffff"/>
            </a:solidFill>
            <a:ln w="38160">
              <a:solidFill>
                <a:srgbClr val="d566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CasellaDiTesto 1"/>
            <p:cNvSpPr/>
            <p:nvPr/>
          </p:nvSpPr>
          <p:spPr>
            <a:xfrm rot="2044200">
              <a:off x="5015880" y="2841840"/>
              <a:ext cx="21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4a8e"/>
                  </a:solidFill>
                  <a:latin typeface="Arial"/>
                  <a:ea typeface="Arial"/>
                </a:rPr>
                <a:t>Reputazion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uppo 23"/>
          <p:cNvGrpSpPr/>
          <p:nvPr/>
        </p:nvGrpSpPr>
        <p:grpSpPr>
          <a:xfrm>
            <a:off x="3650400" y="-79560"/>
            <a:ext cx="5531400" cy="5275440"/>
            <a:chOff x="3650400" y="-79560"/>
            <a:chExt cx="5531400" cy="5275440"/>
          </a:xfrm>
        </p:grpSpPr>
        <p:sp>
          <p:nvSpPr>
            <p:cNvPr id="77" name="Triangolo isoscele 10"/>
            <p:cNvSpPr/>
            <p:nvPr/>
          </p:nvSpPr>
          <p:spPr>
            <a:xfrm rot="20633400">
              <a:off x="4140360" y="469800"/>
              <a:ext cx="4551120" cy="4176720"/>
            </a:xfrm>
            <a:prstGeom prst="triangle">
              <a:avLst>
                <a:gd name="adj" fmla="val 26741"/>
              </a:avLst>
            </a:prstGeom>
            <a:solidFill>
              <a:srgbClr val="ffffff"/>
            </a:solidFill>
            <a:ln w="38160">
              <a:solidFill>
                <a:srgbClr val="d566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CasellaDiTesto 1"/>
            <p:cNvSpPr/>
            <p:nvPr/>
          </p:nvSpPr>
          <p:spPr>
            <a:xfrm rot="2044200">
              <a:off x="4617000" y="2858400"/>
              <a:ext cx="31492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600" spc="-1" strike="noStrike">
                  <a:solidFill>
                    <a:srgbClr val="004a8e"/>
                  </a:solidFill>
                  <a:latin typeface="Arial"/>
                  <a:ea typeface="Arial"/>
                </a:rPr>
                <a:t>Reputazional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004a8e"/>
                  </a:solidFill>
                  <a:latin typeface="Arial"/>
                  <a:ea typeface="Arial"/>
                </a:rPr>
                <a:t>  </a:t>
              </a:r>
              <a:r>
                <a:rPr b="0" lang="it-IT" sz="3200" spc="-1" strike="noStrike">
                  <a:solidFill>
                    <a:srgbClr val="004a8e"/>
                  </a:solidFill>
                  <a:latin typeface="Arial"/>
                  <a:ea typeface="Arial"/>
                </a:rPr>
                <a:t>Retail - Privat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itolo 2"/>
          <p:cNvSpPr/>
          <p:nvPr/>
        </p:nvSpPr>
        <p:spPr>
          <a:xfrm>
            <a:off x="888840" y="620640"/>
            <a:ext cx="8147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Le dimensioni della  Repu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egnaposto numero diapositiva 3"/>
          <p:cNvSpPr/>
          <p:nvPr/>
        </p:nvSpPr>
        <p:spPr>
          <a:xfrm>
            <a:off x="0" y="63817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91AE-3ED2-4BC0-BD2C-A4E42BAE1F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egnaposto contenuto 2"/>
          <p:cNvSpPr/>
          <p:nvPr/>
        </p:nvSpPr>
        <p:spPr>
          <a:xfrm>
            <a:off x="981000" y="2133720"/>
            <a:ext cx="81471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16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La </a:t>
            </a:r>
            <a:r>
              <a:rPr b="1" i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eputazione</a:t>
            </a:r>
            <a:r>
              <a:rPr b="0" i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 di una Banca si fonda sulla fusione di </a:t>
            </a:r>
            <a:r>
              <a:rPr b="1" i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tutte le aspettative</a:t>
            </a:r>
            <a:r>
              <a:rPr b="0" i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, </a:t>
            </a:r>
            <a:r>
              <a:rPr b="1" i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percezioni</a:t>
            </a:r>
            <a:r>
              <a:rPr b="0" i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ed </a:t>
            </a:r>
            <a:r>
              <a:rPr b="1" i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opinioni</a:t>
            </a:r>
            <a:r>
              <a:rPr b="0" i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sviluppate nel tempo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6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60"/>
              </a:lnSpc>
              <a:spcBef>
                <a:spcPts val="451"/>
              </a:spcBef>
              <a:buClr>
                <a:srgbClr val="d56622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Clienti e Dipend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60"/>
              </a:lnSpc>
              <a:spcBef>
                <a:spcPts val="451"/>
              </a:spcBef>
              <a:buClr>
                <a:srgbClr val="d56622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Forni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60"/>
              </a:lnSpc>
              <a:spcBef>
                <a:spcPts val="451"/>
              </a:spcBef>
              <a:buClr>
                <a:srgbClr val="d56622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Autorità (Vigilanza, Garan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60"/>
              </a:lnSpc>
              <a:spcBef>
                <a:spcPts val="451"/>
              </a:spcBef>
              <a:buClr>
                <a:srgbClr val="d56622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Azionisti, Investi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160"/>
              </a:lnSpc>
              <a:spcBef>
                <a:spcPts val="451"/>
              </a:spcBef>
              <a:buClr>
                <a:srgbClr val="d56622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Comunità in cui ope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itolo 2"/>
          <p:cNvSpPr/>
          <p:nvPr/>
        </p:nvSpPr>
        <p:spPr>
          <a:xfrm>
            <a:off x="888840" y="620640"/>
            <a:ext cx="8147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Le dimensioni della  Repu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egnaposto numero diapositiva 3"/>
          <p:cNvSpPr/>
          <p:nvPr/>
        </p:nvSpPr>
        <p:spPr>
          <a:xfrm>
            <a:off x="0" y="640548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799A-8F05-4A63-9884-897A67AB7AE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egnaposto contenuto 2"/>
          <p:cNvSpPr/>
          <p:nvPr/>
        </p:nvSpPr>
        <p:spPr>
          <a:xfrm>
            <a:off x="1041480" y="1844640"/>
            <a:ext cx="81230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Non esiste una sola percezione di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eputazione,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ma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tante quante sono le differenti percezioni degli stakehol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La Reputazione è un bene "intangibile" 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56622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si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forma con il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56622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si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fonda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sui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comportamenti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e le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azioni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della Ba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56622"/>
              </a:buClr>
              <a:buFont typeface="Webdings" charset="2"/>
              <a:buChar char="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è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condizionata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dalle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esperienze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egnaposto contenuto 2"/>
          <p:cNvSpPr/>
          <p:nvPr/>
        </p:nvSpPr>
        <p:spPr>
          <a:xfrm>
            <a:off x="1042920" y="5048280"/>
            <a:ext cx="793296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Ogni momento di contatto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diretto o indiretto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tra gli stakeholder e la Banca, espone quest’ultima a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ischio Reputa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egnaposto contenuto 2"/>
          <p:cNvSpPr/>
          <p:nvPr/>
        </p:nvSpPr>
        <p:spPr>
          <a:xfrm>
            <a:off x="684360" y="4941720"/>
            <a:ext cx="8135640" cy="1224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2400" spc="-1" strike="noStrike">
                <a:solidFill>
                  <a:srgbClr val="004a8e"/>
                </a:solidFill>
                <a:latin typeface="Arial"/>
                <a:ea typeface="Arial"/>
              </a:rPr>
              <a:t>Ogni occasione di contatto, </a:t>
            </a:r>
            <a:r>
              <a:rPr b="1" lang="it-IT" sz="2400" spc="-1" strike="noStrike">
                <a:solidFill>
                  <a:srgbClr val="004a8e"/>
                </a:solidFill>
                <a:latin typeface="Arial"/>
                <a:ea typeface="Arial"/>
              </a:rPr>
              <a:t>diretto o indiretto, </a:t>
            </a:r>
            <a:r>
              <a:rPr b="0" lang="it-IT" sz="2400" spc="-1" strike="noStrike">
                <a:solidFill>
                  <a:srgbClr val="004a8e"/>
                </a:solidFill>
                <a:latin typeface="Arial"/>
                <a:ea typeface="Arial"/>
              </a:rPr>
              <a:t>tra gli stakeholders e la Banca espone quest’ultima al </a:t>
            </a:r>
            <a:r>
              <a:rPr b="1" lang="it-IT" sz="2400" spc="-1" strike="noStrike">
                <a:solidFill>
                  <a:srgbClr val="004a8e"/>
                </a:solidFill>
                <a:latin typeface="Arial"/>
                <a:ea typeface="Arial"/>
              </a:rPr>
              <a:t>Rischio Reputazio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itolo 2"/>
          <p:cNvSpPr/>
          <p:nvPr/>
        </p:nvSpPr>
        <p:spPr>
          <a:xfrm>
            <a:off x="888840" y="620640"/>
            <a:ext cx="8147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2565360" y="2232000"/>
            <a:ext cx="6415200" cy="1484280"/>
          </a:xfrm>
          <a:prstGeom prst="roundRect">
            <a:avLst>
              <a:gd name="adj" fmla="val 0"/>
            </a:avLst>
          </a:prstGeom>
          <a:noFill/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marL="285840" indent="-285840">
              <a:lnSpc>
                <a:spcPct val="100000"/>
              </a:lnSpc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Politiche di Propensione al Risch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ispetto Sanzioni Internazionali / Embar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Presenza/Assenza in  Specifici Settori Econom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Proposta Commerciale di Prodotti e forme tecn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Applicazione Condizioni econom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24000" y="2232000"/>
            <a:ext cx="2039760" cy="1484280"/>
          </a:xfrm>
          <a:prstGeom prst="rect">
            <a:avLst/>
          </a:prstGeom>
          <a:noFill/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56622"/>
                </a:solidFill>
                <a:latin typeface="Arial"/>
              </a:rPr>
              <a:t>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itolo 2"/>
          <p:cNvSpPr/>
          <p:nvPr/>
        </p:nvSpPr>
        <p:spPr>
          <a:xfrm>
            <a:off x="888840" y="763560"/>
            <a:ext cx="8147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I Rischi Reputazionali sono connessi a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Strategie Creditizie/Commerciali e alle Attività Op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2565360" y="4392720"/>
            <a:ext cx="6415200" cy="1484280"/>
          </a:xfrm>
          <a:prstGeom prst="roundRect">
            <a:avLst>
              <a:gd name="adj" fmla="val 0"/>
            </a:avLst>
          </a:prstGeom>
          <a:noFill/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marL="285840" indent="-285840">
              <a:lnSpc>
                <a:spcPct val="100000"/>
              </a:lnSpc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Frodi Inte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Frodi Este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Esecuzione dei process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Monitoraggio e gestione dell'outsour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Chiarezza della docu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324000" y="4392720"/>
            <a:ext cx="2039760" cy="1484280"/>
          </a:xfrm>
          <a:prstGeom prst="rect">
            <a:avLst/>
          </a:prstGeom>
          <a:noFill/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56622"/>
                </a:solidFill>
                <a:latin typeface="Arial"/>
              </a:rPr>
              <a:t>Operativ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itolo 2"/>
          <p:cNvSpPr/>
          <p:nvPr/>
        </p:nvSpPr>
        <p:spPr>
          <a:xfrm>
            <a:off x="888840" y="620640"/>
            <a:ext cx="8147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Le conseguenze del Rischio Reput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egnaposto contenuto 2"/>
          <p:cNvSpPr/>
          <p:nvPr/>
        </p:nvSpPr>
        <p:spPr>
          <a:xfrm>
            <a:off x="1081080" y="1197000"/>
            <a:ext cx="7954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Il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ischio di Reputazione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è il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ischio attuale o prospettico di flessione degli utili o del capitale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derivante da una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percezione negativa dell’immagine della Banca </a:t>
            </a:r>
            <a:r>
              <a:rPr b="1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(Fonte: Banca d'Ital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ccia in giù 10"/>
          <p:cNvSpPr/>
          <p:nvPr/>
        </p:nvSpPr>
        <p:spPr>
          <a:xfrm>
            <a:off x="3492360" y="2303640"/>
            <a:ext cx="2427480" cy="549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6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egnaposto contenuto 2"/>
          <p:cNvSpPr/>
          <p:nvPr/>
        </p:nvSpPr>
        <p:spPr>
          <a:xfrm>
            <a:off x="1619280" y="2997360"/>
            <a:ext cx="6553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La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Perdita di Reputazione può generare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diminuzione delle quote di merc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iduzione del valore del b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perdita di relazioni strategiche con partners e forni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difficoltà a reclutare/trattenere tal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downgrade delle agenzie di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aumento del costo della raccol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azioni legislative e regolament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itolo 2"/>
          <p:cNvSpPr/>
          <p:nvPr/>
        </p:nvSpPr>
        <p:spPr>
          <a:xfrm>
            <a:off x="888840" y="620640"/>
            <a:ext cx="8147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Le conseguenze del Rischio Reput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egnaposto contenuto 2"/>
          <p:cNvSpPr/>
          <p:nvPr/>
        </p:nvSpPr>
        <p:spPr>
          <a:xfrm>
            <a:off x="1081080" y="1197000"/>
            <a:ext cx="7954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Il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ischio di Reputazione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è il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ischio attuale o prospettico di flessione degli utili o del capitale 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derivante da una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percezione negativa dell’immagine della Banca </a:t>
            </a:r>
            <a:r>
              <a:rPr b="1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(Fonte: Banca d'Ital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ccia in giù 10"/>
          <p:cNvSpPr/>
          <p:nvPr/>
        </p:nvSpPr>
        <p:spPr>
          <a:xfrm>
            <a:off x="3492360" y="2303640"/>
            <a:ext cx="2427480" cy="549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56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egnaposto contenuto 2"/>
          <p:cNvSpPr/>
          <p:nvPr/>
        </p:nvSpPr>
        <p:spPr>
          <a:xfrm>
            <a:off x="1619280" y="2997360"/>
            <a:ext cx="655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La</a:t>
            </a: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Perdita di Reputazione si manifesta attravers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ttangolo 1"/>
          <p:cNvSpPr/>
          <p:nvPr/>
        </p:nvSpPr>
        <p:spPr>
          <a:xfrm>
            <a:off x="1547640" y="35244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Notizie diffuse dai "medi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Social Network / Comunità virtu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Passaparola nelle Comunità re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Cause Giudiz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Iniziative dei Regol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d5662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4a8e"/>
                </a:solidFill>
                <a:latin typeface="Arial"/>
                <a:ea typeface="Arial"/>
              </a:rPr>
              <a:t>Reclami formali scri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108" name="Titolo 2"/>
          <p:cNvSpPr/>
          <p:nvPr/>
        </p:nvSpPr>
        <p:spPr>
          <a:xfrm>
            <a:off x="888840" y="620640"/>
            <a:ext cx="8147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56622"/>
                </a:solidFill>
                <a:latin typeface="Arial"/>
                <a:ea typeface="Arial"/>
              </a:rPr>
              <a:t>La gestione di un reclamo genera sempre un Costo Operativo e spesso ad un Danno Reputazionale non quantificabile a pri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egnaposto numero diapositiva 3"/>
          <p:cNvSpPr/>
          <p:nvPr/>
        </p:nvSpPr>
        <p:spPr>
          <a:xfrm>
            <a:off x="0" y="6381720"/>
            <a:ext cx="838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6931-B650-4B23-8B5F-F8908BE7316F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ttangolo 40"/>
          <p:cNvSpPr/>
          <p:nvPr/>
        </p:nvSpPr>
        <p:spPr>
          <a:xfrm>
            <a:off x="4573440" y="2139840"/>
            <a:ext cx="1943280" cy="792360"/>
          </a:xfrm>
          <a:prstGeom prst="rect">
            <a:avLst/>
          </a:prstGeom>
          <a:solidFill>
            <a:srgbClr val="d5662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Acco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ttangolo 42"/>
          <p:cNvSpPr/>
          <p:nvPr/>
        </p:nvSpPr>
        <p:spPr>
          <a:xfrm>
            <a:off x="4573440" y="3316320"/>
            <a:ext cx="1943280" cy="792000"/>
          </a:xfrm>
          <a:prstGeom prst="rect">
            <a:avLst/>
          </a:prstGeom>
          <a:solidFill>
            <a:srgbClr val="d5662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Acco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Parzial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ttangolo 43"/>
          <p:cNvSpPr/>
          <p:nvPr/>
        </p:nvSpPr>
        <p:spPr>
          <a:xfrm>
            <a:off x="4573440" y="4413240"/>
            <a:ext cx="1943280" cy="792000"/>
          </a:xfrm>
          <a:prstGeom prst="rect">
            <a:avLst/>
          </a:prstGeom>
          <a:solidFill>
            <a:srgbClr val="d5662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Non Acco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ttangolo 44"/>
          <p:cNvSpPr/>
          <p:nvPr/>
        </p:nvSpPr>
        <p:spPr>
          <a:xfrm>
            <a:off x="4573440" y="5589720"/>
            <a:ext cx="1943280" cy="792000"/>
          </a:xfrm>
          <a:prstGeom prst="rect">
            <a:avLst/>
          </a:prstGeom>
          <a:solidFill>
            <a:srgbClr val="d5662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Senz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ttangolo 46"/>
          <p:cNvSpPr/>
          <p:nvPr/>
        </p:nvSpPr>
        <p:spPr>
          <a:xfrm>
            <a:off x="6589800" y="2133720"/>
            <a:ext cx="1942920" cy="790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Annullato o Minimizz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ttangolo 47"/>
          <p:cNvSpPr/>
          <p:nvPr/>
        </p:nvSpPr>
        <p:spPr>
          <a:xfrm>
            <a:off x="6588000" y="3314880"/>
            <a:ext cx="1944720" cy="792000"/>
          </a:xfrm>
          <a:prstGeom prst="rect">
            <a:avLst/>
          </a:prstGeom>
          <a:solidFill>
            <a:srgbClr val="d566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Persist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ttangolo 49"/>
          <p:cNvSpPr/>
          <p:nvPr/>
        </p:nvSpPr>
        <p:spPr>
          <a:xfrm>
            <a:off x="6588000" y="5589720"/>
            <a:ext cx="1944720" cy="792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Gr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ttangolo 50"/>
          <p:cNvSpPr/>
          <p:nvPr/>
        </p:nvSpPr>
        <p:spPr>
          <a:xfrm>
            <a:off x="6588000" y="4419720"/>
            <a:ext cx="1944720" cy="79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F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ttangolo 51"/>
          <p:cNvSpPr/>
          <p:nvPr/>
        </p:nvSpPr>
        <p:spPr>
          <a:xfrm>
            <a:off x="4573440" y="1413000"/>
            <a:ext cx="19432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4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600" spc="-1" strike="noStrike">
                <a:solidFill>
                  <a:srgbClr val="d56622"/>
                </a:solidFill>
                <a:latin typeface="Arial"/>
                <a:ea typeface="Arial"/>
              </a:rPr>
              <a:t>ESITO RECL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ttangolo 53"/>
          <p:cNvSpPr/>
          <p:nvPr/>
        </p:nvSpPr>
        <p:spPr>
          <a:xfrm>
            <a:off x="6589800" y="1407960"/>
            <a:ext cx="19414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4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600" spc="-1" strike="noStrike">
                <a:solidFill>
                  <a:srgbClr val="d56622"/>
                </a:solidFill>
                <a:latin typeface="Arial"/>
                <a:ea typeface="Arial"/>
              </a:rPr>
              <a:t>IMPATTO REPUTA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uppo 36"/>
          <p:cNvGrpSpPr/>
          <p:nvPr/>
        </p:nvGrpSpPr>
        <p:grpSpPr>
          <a:xfrm>
            <a:off x="0" y="2908440"/>
            <a:ext cx="3808080" cy="1600200"/>
            <a:chOff x="0" y="2908440"/>
            <a:chExt cx="3808080" cy="1600200"/>
          </a:xfrm>
        </p:grpSpPr>
        <p:grpSp>
          <p:nvGrpSpPr>
            <p:cNvPr id="121" name="Gruppo 7168"/>
            <p:cNvGrpSpPr/>
            <p:nvPr/>
          </p:nvGrpSpPr>
          <p:grpSpPr>
            <a:xfrm>
              <a:off x="0" y="2908440"/>
              <a:ext cx="1816920" cy="1600200"/>
              <a:chOff x="0" y="2908440"/>
              <a:chExt cx="1816920" cy="1600200"/>
            </a:xfrm>
          </p:grpSpPr>
          <p:pic>
            <p:nvPicPr>
              <p:cNvPr id="122" name="Picture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908440"/>
                <a:ext cx="1816920" cy="16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CasellaDiTesto 29"/>
              <p:cNvSpPr/>
              <p:nvPr/>
            </p:nvSpPr>
            <p:spPr>
              <a:xfrm rot="16200000">
                <a:off x="490680" y="34783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Reclam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uppo 7173"/>
            <p:cNvGrpSpPr/>
            <p:nvPr/>
          </p:nvGrpSpPr>
          <p:grpSpPr>
            <a:xfrm>
              <a:off x="251280" y="2908440"/>
              <a:ext cx="3556800" cy="1600200"/>
              <a:chOff x="251280" y="2908440"/>
              <a:chExt cx="3556800" cy="1600200"/>
            </a:xfrm>
          </p:grpSpPr>
          <p:grpSp>
            <p:nvGrpSpPr>
              <p:cNvPr id="125" name="Gruppo 7170"/>
              <p:cNvGrpSpPr/>
              <p:nvPr/>
            </p:nvGrpSpPr>
            <p:grpSpPr>
              <a:xfrm>
                <a:off x="2153880" y="2908440"/>
                <a:ext cx="1654200" cy="1600200"/>
                <a:chOff x="2153880" y="2908440"/>
                <a:chExt cx="1654200" cy="1600200"/>
              </a:xfrm>
            </p:grpSpPr>
            <p:pic>
              <p:nvPicPr>
                <p:cNvPr id="126" name="Picture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153880" y="2908440"/>
                  <a:ext cx="1640160" cy="160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" name="CasellaDiTesto 7167"/>
                <p:cNvSpPr/>
                <p:nvPr/>
              </p:nvSpPr>
              <p:spPr>
                <a:xfrm>
                  <a:off x="2627640" y="3825720"/>
                  <a:ext cx="1180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laim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Rettangolo 37"/>
              <p:cNvSpPr/>
              <p:nvPr/>
            </p:nvSpPr>
            <p:spPr>
              <a:xfrm>
                <a:off x="251280" y="2908440"/>
                <a:ext cx="1368000" cy="1600200"/>
              </a:xfrm>
              <a:prstGeom prst="rect">
                <a:avLst/>
              </a:prstGeom>
              <a:solidFill>
                <a:srgbClr val="d5662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Triangolo isoscele 7172"/>
              <p:cNvSpPr/>
              <p:nvPr/>
            </p:nvSpPr>
            <p:spPr>
              <a:xfrm rot="5400000">
                <a:off x="1094040" y="3439080"/>
                <a:ext cx="1600200" cy="538560"/>
              </a:xfrm>
              <a:prstGeom prst="triangle">
                <a:avLst>
                  <a:gd name="adj" fmla="val 48514"/>
                </a:avLst>
              </a:prstGeom>
              <a:solidFill>
                <a:srgbClr val="d5662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30" name="Connettore 4 7175"/>
          <p:cNvCxnSpPr>
            <a:stCxn id="126" idx="3"/>
            <a:endCxn id="110" idx="1"/>
          </p:cNvCxnSpPr>
          <p:nvPr/>
        </p:nvCxnSpPr>
        <p:spPr>
          <a:xfrm flipV="1">
            <a:off x="3793680" y="2536560"/>
            <a:ext cx="780120" cy="1172160"/>
          </a:xfrm>
          <a:prstGeom prst="bentConnector3">
            <a:avLst>
              <a:gd name="adj1" fmla="val 50000"/>
            </a:avLst>
          </a:prstGeom>
          <a:ln w="25560">
            <a:solidFill>
              <a:srgbClr val="004a8e"/>
            </a:solidFill>
            <a:round/>
            <a:tailEnd len="med" type="arrow" w="med"/>
          </a:ln>
        </p:spPr>
      </p:cxnSp>
      <p:cxnSp>
        <p:nvCxnSpPr>
          <p:cNvPr id="131" name="Connettore 4 7179"/>
          <p:cNvCxnSpPr/>
          <p:nvPr/>
        </p:nvCxnSpPr>
        <p:spPr>
          <a:xfrm>
            <a:off x="3793680" y="3708360"/>
            <a:ext cx="780120" cy="1102320"/>
          </a:xfrm>
          <a:prstGeom prst="bentConnector3">
            <a:avLst>
              <a:gd name="adj1" fmla="val 50000"/>
            </a:avLst>
          </a:prstGeom>
          <a:ln w="25560">
            <a:solidFill>
              <a:srgbClr val="004a8e"/>
            </a:solidFill>
            <a:round/>
            <a:tailEnd len="med" type="arrow" w="med"/>
          </a:ln>
        </p:spPr>
      </p:cxnSp>
      <p:cxnSp>
        <p:nvCxnSpPr>
          <p:cNvPr id="132" name="Connettore 4 7195"/>
          <p:cNvCxnSpPr>
            <a:endCxn id="113" idx="1"/>
          </p:cNvCxnSpPr>
          <p:nvPr/>
        </p:nvCxnSpPr>
        <p:spPr>
          <a:xfrm flipH="1" rot="16200000">
            <a:off x="3790080" y="5202720"/>
            <a:ext cx="1177200" cy="390960"/>
          </a:xfrm>
          <a:prstGeom prst="bentConnector2">
            <a:avLst/>
          </a:prstGeom>
          <a:ln w="25560">
            <a:solidFill>
              <a:srgbClr val="004a8e"/>
            </a:solidFill>
            <a:round/>
            <a:tailEnd len="med" type="arrow" w="med"/>
          </a:ln>
        </p:spPr>
      </p:cxnSp>
      <p:cxnSp>
        <p:nvCxnSpPr>
          <p:cNvPr id="133" name="Connettore 4 33"/>
          <p:cNvCxnSpPr/>
          <p:nvPr/>
        </p:nvCxnSpPr>
        <p:spPr>
          <a:xfrm flipV="1">
            <a:off x="3794040" y="3707640"/>
            <a:ext cx="774000" cy="3960"/>
          </a:xfrm>
          <a:prstGeom prst="bentConnector3">
            <a:avLst>
              <a:gd name="adj1" fmla="val 49976"/>
            </a:avLst>
          </a:prstGeom>
          <a:ln w="25560">
            <a:solidFill>
              <a:srgbClr val="004a8e"/>
            </a:solidFill>
            <a:round/>
            <a:tailEnd len="med" type="arrow" w="med"/>
          </a:ln>
        </p:spPr>
      </p:cxnSp>
      <p:sp>
        <p:nvSpPr>
          <p:cNvPr id="134" name="Rettangolo 28"/>
          <p:cNvSpPr/>
          <p:nvPr/>
        </p:nvSpPr>
        <p:spPr>
          <a:xfrm>
            <a:off x="250920" y="2205000"/>
            <a:ext cx="35431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4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it-IT" sz="1600" spc="-1" strike="noStrike">
                <a:solidFill>
                  <a:srgbClr val="d56622"/>
                </a:solidFill>
                <a:latin typeface="Arial"/>
                <a:ea typeface="Arial"/>
              </a:rPr>
              <a:t>Processo Gestione Recla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6:38:57Z</dcterms:created>
  <dc:creator>lisa piccolo frate</dc:creator>
  <dc:description/>
  <dc:language>en-US</dc:language>
  <cp:lastModifiedBy>LUCA VERZELLA</cp:lastModifiedBy>
  <dcterms:modified xsi:type="dcterms:W3CDTF">2014-11-17T10:58:26Z</dcterms:modified>
  <cp:revision>160</cp:revision>
  <dc:subject/>
  <dc:title>PowerPoint Presentation</dc:title>
</cp:coreProperties>
</file>