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19.jpeg" ContentType="image/jpeg"/>
  <Override PartName="/ppt/media/image31.png" ContentType="image/png"/>
  <Override PartName="/ppt/media/image43.png" ContentType="image/png"/>
  <Override PartName="/ppt/media/image47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12.png" ContentType="image/png"/>
  <Override PartName="/ppt/media/image8.png" ContentType="image/png"/>
  <Override PartName="/ppt/media/image6.jpeg" ContentType="image/jpeg"/>
  <Override PartName="/ppt/media/image18.png" ContentType="image/png"/>
  <Override PartName="/ppt/media/image38.wmf" ContentType="image/x-wmf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9F5-8191-451A-B057-D1BAF10E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A27-7ED1-44B5-A61D-01A88A04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586-BFFE-47FA-8CCD-D8B1EEEB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B09-FD4E-464D-8701-568B5300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856-5E2D-438E-96A2-0BA8A5A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9F8-8583-4A9D-8EB3-6273E7C4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CC1-694F-4DB7-A749-DA3E5FD4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3874-8628-477C-A687-5633F7B5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7AF-30C9-4172-B2F9-9D461F93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FF43-58AE-47A1-9363-1E0A4595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3FF8-A7A6-4193-B8C8-8FFB0E28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859A-9F5C-4A38-8DE5-1815A37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6683-5514-4A2E-ADFB-C5AF339F1B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jpe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4" descr="Slide 1B -2013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1" descr="diapositiva 20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80880" y="5638680"/>
            <a:ext cx="599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Performance e Costo del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Angelo Pia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2843280" y="6111720"/>
            <a:ext cx="158256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ttangolo 7"/>
          <p:cNvSpPr/>
          <p:nvPr/>
        </p:nvSpPr>
        <p:spPr>
          <a:xfrm>
            <a:off x="1258920" y="62064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Come sviluppare la qualità della relazione con i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uppo 3"/>
          <p:cNvGrpSpPr/>
          <p:nvPr/>
        </p:nvGrpSpPr>
        <p:grpSpPr>
          <a:xfrm>
            <a:off x="4788000" y="1844640"/>
            <a:ext cx="3960720" cy="4112640"/>
            <a:chOff x="4788000" y="1844640"/>
            <a:chExt cx="3960720" cy="4112640"/>
          </a:xfrm>
        </p:grpSpPr>
        <p:pic>
          <p:nvPicPr>
            <p:cNvPr id="148" name="Picture 7" descr="http://www.ifnet.it/wp-content/uploads/2011/09/consulenza.png"/>
            <p:cNvPicPr/>
            <p:nvPr/>
          </p:nvPicPr>
          <p:blipFill>
            <a:blip r:embed="rId2"/>
            <a:stretch/>
          </p:blipFill>
          <p:spPr>
            <a:xfrm>
              <a:off x="4932360" y="1844640"/>
              <a:ext cx="2799000" cy="24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CasellaDiTesto 8"/>
            <p:cNvSpPr/>
            <p:nvPr/>
          </p:nvSpPr>
          <p:spPr>
            <a:xfrm>
              <a:off x="4788000" y="4437720"/>
              <a:ext cx="39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4a8e"/>
                  </a:solidFill>
                  <a:latin typeface="Arial"/>
                </a:rPr>
                <a:t>Approccio consulenzi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CasellaDiTesto 7"/>
            <p:cNvSpPr/>
            <p:nvPr/>
          </p:nvSpPr>
          <p:spPr>
            <a:xfrm>
              <a:off x="4788000" y="4797720"/>
              <a:ext cx="3673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4a8e"/>
                  </a:solidFill>
                  <a:latin typeface="Arial"/>
                </a:rPr>
                <a:t>Comprendere realmente le problematiche del cliente in difficoltà e pianificare con lui il modo migliore e più efficace per il rientro in boni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uppo 4"/>
          <p:cNvGrpSpPr/>
          <p:nvPr/>
        </p:nvGrpSpPr>
        <p:grpSpPr>
          <a:xfrm>
            <a:off x="741240" y="1989000"/>
            <a:ext cx="3830760" cy="3967920"/>
            <a:chOff x="741240" y="1989000"/>
            <a:chExt cx="3830760" cy="3967920"/>
          </a:xfrm>
        </p:grpSpPr>
        <p:pic>
          <p:nvPicPr>
            <p:cNvPr id="152" name="Picture 9" descr="http://www.cuttingedge.uk.com/cms/wp-content/uploads/2013/02/trainer_icon.png"/>
            <p:cNvPicPr/>
            <p:nvPr/>
          </p:nvPicPr>
          <p:blipFill>
            <a:blip r:embed="rId3"/>
            <a:stretch/>
          </p:blipFill>
          <p:spPr>
            <a:xfrm>
              <a:off x="1195200" y="1989000"/>
              <a:ext cx="2438640" cy="243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Gruppo 2"/>
            <p:cNvGrpSpPr/>
            <p:nvPr/>
          </p:nvGrpSpPr>
          <p:grpSpPr>
            <a:xfrm>
              <a:off x="741240" y="4437360"/>
              <a:ext cx="3830760" cy="1519560"/>
              <a:chOff x="741240" y="4437360"/>
              <a:chExt cx="3830760" cy="1519560"/>
            </a:xfrm>
          </p:grpSpPr>
          <p:sp>
            <p:nvSpPr>
              <p:cNvPr id="154" name="CasellaDiTesto 1"/>
              <p:cNvSpPr/>
              <p:nvPr/>
            </p:nvSpPr>
            <p:spPr>
              <a:xfrm>
                <a:off x="756360" y="4437360"/>
                <a:ext cx="346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4a8e"/>
                    </a:solidFill>
                    <a:latin typeface="Arial"/>
                  </a:rPr>
                  <a:t>Sistemi di CRM evolut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CasellaDiTesto 9"/>
              <p:cNvSpPr/>
              <p:nvPr/>
            </p:nvSpPr>
            <p:spPr>
              <a:xfrm>
                <a:off x="741240" y="4797360"/>
                <a:ext cx="38307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400" spc="-1" strike="noStrike">
                    <a:solidFill>
                      <a:srgbClr val="004a8e"/>
                    </a:solidFill>
                    <a:latin typeface="Arial"/>
                  </a:rPr>
                  <a:t>Sistemi di customer relationship management capaci di individuare interventi più “customizzati” alle caratteristiche ed ai comportamenti dei clienti in difficoltà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CasellaDiTesto 12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4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-3024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ttangolo 7"/>
          <p:cNvSpPr/>
          <p:nvPr/>
        </p:nvSpPr>
        <p:spPr>
          <a:xfrm>
            <a:off x="1258920" y="619200"/>
            <a:ext cx="604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Un approccio consulenzia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necessita lo 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sviluppo </a:t>
            </a: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di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Diagramma 7" descr=""/>
          <p:cNvPicPr/>
          <p:nvPr/>
        </p:nvPicPr>
        <p:blipFill>
          <a:blip r:embed="rId2"/>
          <a:stretch/>
        </p:blipFill>
        <p:spPr>
          <a:xfrm>
            <a:off x="858960" y="1536840"/>
            <a:ext cx="7169040" cy="417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ttp://www.ifnet.it/wp-content/uploads/2011/09/consulenza.png"/>
          <p:cNvPicPr/>
          <p:nvPr/>
        </p:nvPicPr>
        <p:blipFill>
          <a:blip r:embed="rId3"/>
          <a:stretch/>
        </p:blipFill>
        <p:spPr>
          <a:xfrm>
            <a:off x="7308720" y="712800"/>
            <a:ext cx="1538280" cy="1346040"/>
          </a:xfrm>
          <a:prstGeom prst="rect">
            <a:avLst/>
          </a:prstGeom>
          <a:ln w="0">
            <a:noFill/>
          </a:ln>
        </p:spPr>
      </p:pic>
      <p:sp>
        <p:nvSpPr>
          <p:cNvPr id="162" name="Rettangolo 6"/>
          <p:cNvSpPr/>
          <p:nvPr/>
        </p:nvSpPr>
        <p:spPr>
          <a:xfrm>
            <a:off x="1073160" y="5819760"/>
            <a:ext cx="78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forte investimento culturale nell’ambito di un processo industr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8" descr="http://giornaleilcentro.files.wordpress.com/2010/05/attenzione.jpg"/>
          <p:cNvPicPr/>
          <p:nvPr/>
        </p:nvPicPr>
        <p:blipFill>
          <a:blip r:embed="rId4"/>
          <a:stretch/>
        </p:blipFill>
        <p:spPr>
          <a:xfrm>
            <a:off x="287280" y="5626080"/>
            <a:ext cx="858960" cy="755640"/>
          </a:xfrm>
          <a:prstGeom prst="rect">
            <a:avLst/>
          </a:prstGeom>
          <a:ln w="0">
            <a:noFill/>
          </a:ln>
        </p:spPr>
      </p:pic>
      <p:grpSp>
        <p:nvGrpSpPr>
          <p:cNvPr id="164" name="Gruppo 9"/>
          <p:cNvGrpSpPr/>
          <p:nvPr/>
        </p:nvGrpSpPr>
        <p:grpSpPr>
          <a:xfrm>
            <a:off x="3540240" y="3049560"/>
            <a:ext cx="1823400" cy="1171440"/>
            <a:chOff x="3540240" y="3049560"/>
            <a:chExt cx="1823400" cy="1171440"/>
          </a:xfrm>
        </p:grpSpPr>
        <p:grpSp>
          <p:nvGrpSpPr>
            <p:cNvPr id="165" name="Ovale 5"/>
            <p:cNvGrpSpPr/>
            <p:nvPr/>
          </p:nvGrpSpPr>
          <p:grpSpPr>
            <a:xfrm>
              <a:off x="3540240" y="3188160"/>
              <a:ext cx="1812240" cy="902160"/>
              <a:chOff x="3540240" y="3188160"/>
              <a:chExt cx="1812240" cy="902160"/>
            </a:xfrm>
          </p:grpSpPr>
          <p:pic>
            <p:nvPicPr>
              <p:cNvPr id="166" name="Ova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3540240" y="3188160"/>
                <a:ext cx="1812240" cy="90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"/>
              <p:cNvSpPr/>
              <p:nvPr/>
            </p:nvSpPr>
            <p:spPr>
              <a:xfrm>
                <a:off x="3822840" y="3336840"/>
                <a:ext cx="12470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Freccia circolare a destra 3"/>
            <p:cNvSpPr/>
            <p:nvPr/>
          </p:nvSpPr>
          <p:spPr>
            <a:xfrm>
              <a:off x="3550680" y="3104280"/>
              <a:ext cx="716040" cy="1116720"/>
            </a:xfrm>
            <a:custGeom>
              <a:avLst/>
              <a:gdLst>
                <a:gd name="textAreaLeft" fmla="*/ 95760 w 716040"/>
                <a:gd name="textAreaRight" fmla="*/ 620280 w 716040"/>
                <a:gd name="textAreaTop" fmla="*/ 211680 h 1116720"/>
                <a:gd name="textAreaBottom" fmla="*/ 815040 h 11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Freccia circolare a destra 12"/>
            <p:cNvSpPr/>
            <p:nvPr/>
          </p:nvSpPr>
          <p:spPr>
            <a:xfrm rot="10800000">
              <a:off x="4647600" y="3049560"/>
              <a:ext cx="716040" cy="1116720"/>
            </a:xfrm>
            <a:custGeom>
              <a:avLst/>
              <a:gdLst>
                <a:gd name="textAreaLeft" fmla="*/ 95760 w 716040"/>
                <a:gd name="textAreaRight" fmla="*/ 620280 w 716040"/>
                <a:gd name="textAreaTop" fmla="*/ 211680 h 1116720"/>
                <a:gd name="textAreaBottom" fmla="*/ 815040 h 111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CasellaDiTesto 15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6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ttangolo 7"/>
          <p:cNvSpPr/>
          <p:nvPr/>
        </p:nvSpPr>
        <p:spPr>
          <a:xfrm>
            <a:off x="1258920" y="907920"/>
            <a:ext cx="6049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Il fattore TEMPO come circolo vizio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asellaDiTesto 15"/>
          <p:cNvSpPr/>
          <p:nvPr/>
        </p:nvSpPr>
        <p:spPr>
          <a:xfrm>
            <a:off x="3192120" y="4724280"/>
            <a:ext cx="3577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AGGRESSIV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2060"/>
                </a:solidFill>
                <a:latin typeface="Calibri"/>
              </a:rPr>
              <a:t>RIDUZIONE CAPACITA’ RELAZ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-36360" y="-3873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5" name="Gruppo 29"/>
          <p:cNvGrpSpPr/>
          <p:nvPr/>
        </p:nvGrpSpPr>
        <p:grpSpPr>
          <a:xfrm>
            <a:off x="3435480" y="1631520"/>
            <a:ext cx="1823760" cy="1172160"/>
            <a:chOff x="3435480" y="1631520"/>
            <a:chExt cx="1823760" cy="1172160"/>
          </a:xfrm>
        </p:grpSpPr>
        <p:grpSp>
          <p:nvGrpSpPr>
            <p:cNvPr id="176" name="Ovale 22"/>
            <p:cNvGrpSpPr/>
            <p:nvPr/>
          </p:nvGrpSpPr>
          <p:grpSpPr>
            <a:xfrm>
              <a:off x="3435480" y="1755360"/>
              <a:ext cx="1807200" cy="902520"/>
              <a:chOff x="3435480" y="1755360"/>
              <a:chExt cx="1807200" cy="902520"/>
            </a:xfrm>
          </p:grpSpPr>
          <p:pic>
            <p:nvPicPr>
              <p:cNvPr id="177" name="Ovale 22" descr=""/>
              <p:cNvPicPr/>
              <p:nvPr/>
            </p:nvPicPr>
            <p:blipFill>
              <a:blip r:embed="rId2"/>
              <a:stretch/>
            </p:blipFill>
            <p:spPr>
              <a:xfrm>
                <a:off x="3435480" y="1755360"/>
                <a:ext cx="1807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3717000" y="1904760"/>
                <a:ext cx="124776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Freccia circolare a destra 23"/>
            <p:cNvSpPr/>
            <p:nvPr/>
          </p:nvSpPr>
          <p:spPr>
            <a:xfrm>
              <a:off x="3444480" y="1686600"/>
              <a:ext cx="716400" cy="1117080"/>
            </a:xfrm>
            <a:custGeom>
              <a:avLst/>
              <a:gdLst>
                <a:gd name="textAreaLeft" fmla="*/ 95760 w 716400"/>
                <a:gd name="textAreaRight" fmla="*/ 620640 w 716400"/>
                <a:gd name="textAreaTop" fmla="*/ 211680 h 1117080"/>
                <a:gd name="textAreaBottom" fmla="*/ 81540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ccia circolare a destra 24"/>
            <p:cNvSpPr/>
            <p:nvPr/>
          </p:nvSpPr>
          <p:spPr>
            <a:xfrm rot="10800000">
              <a:off x="4542840" y="1631520"/>
              <a:ext cx="716400" cy="1117080"/>
            </a:xfrm>
            <a:custGeom>
              <a:avLst/>
              <a:gdLst>
                <a:gd name="textAreaLeft" fmla="*/ 95760 w 716400"/>
                <a:gd name="textAreaRight" fmla="*/ 620640 w 716400"/>
                <a:gd name="textAreaTop" fmla="*/ 211680 h 1117080"/>
                <a:gd name="textAreaBottom" fmla="*/ 81540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uppo 3"/>
          <p:cNvGrpSpPr/>
          <p:nvPr/>
        </p:nvGrpSpPr>
        <p:grpSpPr>
          <a:xfrm>
            <a:off x="3435480" y="1628280"/>
            <a:ext cx="1822320" cy="1172160"/>
            <a:chOff x="3435480" y="1628280"/>
            <a:chExt cx="1822320" cy="1172160"/>
          </a:xfrm>
        </p:grpSpPr>
        <p:grpSp>
          <p:nvGrpSpPr>
            <p:cNvPr id="182" name="Ovale 26"/>
            <p:cNvGrpSpPr/>
            <p:nvPr/>
          </p:nvGrpSpPr>
          <p:grpSpPr>
            <a:xfrm>
              <a:off x="3435480" y="1767600"/>
              <a:ext cx="1807200" cy="902520"/>
              <a:chOff x="3435480" y="1767600"/>
              <a:chExt cx="1807200" cy="902520"/>
            </a:xfrm>
          </p:grpSpPr>
          <p:pic>
            <p:nvPicPr>
              <p:cNvPr id="183" name="Oval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35480" y="1767600"/>
                <a:ext cx="1807200" cy="9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3716640" y="1915920"/>
                <a:ext cx="1246680" cy="60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EMP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Freccia circolare a destra 27"/>
            <p:cNvSpPr/>
            <p:nvPr/>
          </p:nvSpPr>
          <p:spPr>
            <a:xfrm>
              <a:off x="3444480" y="1683360"/>
              <a:ext cx="715680" cy="1117080"/>
            </a:xfrm>
            <a:custGeom>
              <a:avLst/>
              <a:gdLst>
                <a:gd name="textAreaLeft" fmla="*/ 95760 w 715680"/>
                <a:gd name="textAreaRight" fmla="*/ 619920 w 715680"/>
                <a:gd name="textAreaTop" fmla="*/ 211680 h 1117080"/>
                <a:gd name="textAreaBottom" fmla="*/ 81540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ccia circolare a destra 28"/>
            <p:cNvSpPr/>
            <p:nvPr/>
          </p:nvSpPr>
          <p:spPr>
            <a:xfrm rot="10800000">
              <a:off x="4542120" y="1628280"/>
              <a:ext cx="715680" cy="1117080"/>
            </a:xfrm>
            <a:custGeom>
              <a:avLst/>
              <a:gdLst>
                <a:gd name="textAreaLeft" fmla="*/ 95760 w 715680"/>
                <a:gd name="textAreaRight" fmla="*/ 619920 w 715680"/>
                <a:gd name="textAreaTop" fmla="*/ 211680 h 1117080"/>
                <a:gd name="textAreaBottom" fmla="*/ 815400 h 111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88" stAng="-5400000" swAng="-5400000"/>
                  <a:lnTo>
                    <a:pt x="0" y="11671"/>
                  </a:lnTo>
                  <a:arcTo wR="21600" hR="8188" stAng="10800000" swAng="-3344304"/>
                  <a:lnTo>
                    <a:pt x="16200" y="21340"/>
                  </a:lnTo>
                  <a:lnTo>
                    <a:pt x="21600" y="18117"/>
                  </a:lnTo>
                  <a:lnTo>
                    <a:pt x="16200" y="14373"/>
                  </a:lnTo>
                  <a:lnTo>
                    <a:pt x="16200" y="16115"/>
                  </a:lnTo>
                  <a:arcTo wR="21600" hR="8188" stAng="7455696" swAng="3061286"/>
                  <a:lnTo>
                    <a:pt x="494" y="9929"/>
                  </a:lnTo>
                  <a:arcTo wR="21600" hR="8188" stAng="-10516982" swAng="5116982"/>
                  <a:close/>
                </a:path>
                <a:path fill="darkenLess" w="21600" h="21600">
                  <a:moveTo>
                    <a:pt x="21600" y="0"/>
                  </a:moveTo>
                  <a:arcTo wR="21600" hR="8188" stAng="-5400000" swAng="-5400000"/>
                  <a:lnTo>
                    <a:pt x="0" y="8188"/>
                  </a:lnTo>
                  <a:arcTo wR="21600" hR="8188" stAng="10800000" swAng="-283018"/>
                  <a:lnTo>
                    <a:pt x="494" y="9929"/>
                  </a:lnTo>
                  <a:arcTo wR="21600" hR="8188" stAng="-10516982" swAng="5116982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Rettangolo 7"/>
          <p:cNvSpPr/>
          <p:nvPr/>
        </p:nvSpPr>
        <p:spPr>
          <a:xfrm>
            <a:off x="1258920" y="549360"/>
            <a:ext cx="604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Il fattore tempo: un circolo virtuo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Rettangolo arrotondato 45"/>
          <p:cNvGrpSpPr/>
          <p:nvPr/>
        </p:nvGrpSpPr>
        <p:grpSpPr>
          <a:xfrm>
            <a:off x="4816440" y="3468600"/>
            <a:ext cx="2260800" cy="895320"/>
            <a:chOff x="4816440" y="3468600"/>
            <a:chExt cx="2260800" cy="895320"/>
          </a:xfrm>
        </p:grpSpPr>
        <p:pic>
          <p:nvPicPr>
            <p:cNvPr id="189" name="Rettangolo arrotondato 45" descr=""/>
            <p:cNvPicPr/>
            <p:nvPr/>
          </p:nvPicPr>
          <p:blipFill>
            <a:blip r:embed="rId4"/>
            <a:stretch/>
          </p:blipFill>
          <p:spPr>
            <a:xfrm>
              <a:off x="4816440" y="3468600"/>
              <a:ext cx="2260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906800" y="3537000"/>
              <a:ext cx="2079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GGRESSIV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ESC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Rettangolo arrotondato 53"/>
          <p:cNvGrpSpPr/>
          <p:nvPr/>
        </p:nvGrpSpPr>
        <p:grpSpPr>
          <a:xfrm>
            <a:off x="1712880" y="3468600"/>
            <a:ext cx="2262240" cy="895320"/>
            <a:chOff x="1712880" y="3468600"/>
            <a:chExt cx="2262240" cy="895320"/>
          </a:xfrm>
        </p:grpSpPr>
        <p:pic>
          <p:nvPicPr>
            <p:cNvPr id="192" name="Rettangolo arrotondato 53" descr=""/>
            <p:cNvPicPr/>
            <p:nvPr/>
          </p:nvPicPr>
          <p:blipFill>
            <a:blip r:embed="rId5"/>
            <a:stretch/>
          </p:blipFill>
          <p:spPr>
            <a:xfrm>
              <a:off x="1712880" y="3468600"/>
              <a:ext cx="22622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803240" y="3537000"/>
              <a:ext cx="2079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L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GR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Freccia in giù 43"/>
          <p:cNvGrpSpPr/>
          <p:nvPr/>
        </p:nvGrpSpPr>
        <p:grpSpPr>
          <a:xfrm>
            <a:off x="2243160" y="4334040"/>
            <a:ext cx="1201680" cy="1049040"/>
            <a:chOff x="2243160" y="4334040"/>
            <a:chExt cx="1201680" cy="1049040"/>
          </a:xfrm>
        </p:grpSpPr>
        <p:pic>
          <p:nvPicPr>
            <p:cNvPr id="195" name="Freccia in giù 43" descr=""/>
            <p:cNvPicPr/>
            <p:nvPr/>
          </p:nvPicPr>
          <p:blipFill>
            <a:blip r:embed="rId6"/>
            <a:stretch/>
          </p:blipFill>
          <p:spPr>
            <a:xfrm>
              <a:off x="2243160" y="4334040"/>
              <a:ext cx="120168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570040" y="4365720"/>
              <a:ext cx="546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Freccia in giù 55"/>
          <p:cNvGrpSpPr/>
          <p:nvPr/>
        </p:nvGrpSpPr>
        <p:grpSpPr>
          <a:xfrm>
            <a:off x="5383080" y="4334040"/>
            <a:ext cx="1200240" cy="1049040"/>
            <a:chOff x="5383080" y="4334040"/>
            <a:chExt cx="1200240" cy="1049040"/>
          </a:xfrm>
        </p:grpSpPr>
        <p:pic>
          <p:nvPicPr>
            <p:cNvPr id="198" name="Freccia in giù 55" descr=""/>
            <p:cNvPicPr/>
            <p:nvPr/>
          </p:nvPicPr>
          <p:blipFill>
            <a:blip r:embed="rId7"/>
            <a:stretch/>
          </p:blipFill>
          <p:spPr>
            <a:xfrm>
              <a:off x="5383080" y="4334040"/>
              <a:ext cx="120024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711760" y="4365720"/>
              <a:ext cx="5461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Rettangolo arrotondato 56"/>
          <p:cNvGrpSpPr/>
          <p:nvPr/>
        </p:nvGrpSpPr>
        <p:grpSpPr>
          <a:xfrm>
            <a:off x="4743360" y="5321160"/>
            <a:ext cx="2486160" cy="1152720"/>
            <a:chOff x="4743360" y="5321160"/>
            <a:chExt cx="2486160" cy="1152720"/>
          </a:xfrm>
        </p:grpSpPr>
        <p:pic>
          <p:nvPicPr>
            <p:cNvPr id="201" name="Rettangolo arrotondato 56" descr=""/>
            <p:cNvPicPr/>
            <p:nvPr/>
          </p:nvPicPr>
          <p:blipFill>
            <a:blip r:embed="rId8"/>
            <a:stretch/>
          </p:blipFill>
          <p:spPr>
            <a:xfrm>
              <a:off x="4743360" y="5321160"/>
              <a:ext cx="24861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843440" y="5418000"/>
              <a:ext cx="22860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ù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SCHIO REPUTAZIO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Rettangolo arrotondato 57"/>
          <p:cNvGrpSpPr/>
          <p:nvPr/>
        </p:nvGrpSpPr>
        <p:grpSpPr>
          <a:xfrm>
            <a:off x="1639800" y="5321160"/>
            <a:ext cx="2487600" cy="1152720"/>
            <a:chOff x="1639800" y="5321160"/>
            <a:chExt cx="2487600" cy="1152720"/>
          </a:xfrm>
        </p:grpSpPr>
        <p:pic>
          <p:nvPicPr>
            <p:cNvPr id="204" name="Rettangolo arrotondato 57" descr=""/>
            <p:cNvPicPr/>
            <p:nvPr/>
          </p:nvPicPr>
          <p:blipFill>
            <a:blip r:embed="rId9"/>
            <a:stretch/>
          </p:blipFill>
          <p:spPr>
            <a:xfrm>
              <a:off x="1639800" y="5321160"/>
              <a:ext cx="24876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739880" y="5418000"/>
              <a:ext cx="228600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FICAC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Freccia a destra con strisce 44"/>
          <p:cNvGrpSpPr/>
          <p:nvPr/>
        </p:nvGrpSpPr>
        <p:grpSpPr>
          <a:xfrm>
            <a:off x="4956120" y="2438280"/>
            <a:ext cx="1079640" cy="1116000"/>
            <a:chOff x="4956120" y="2438280"/>
            <a:chExt cx="1079640" cy="1116000"/>
          </a:xfrm>
        </p:grpSpPr>
        <p:pic>
          <p:nvPicPr>
            <p:cNvPr id="207" name="Freccia a destra con strisce 44" descr=""/>
            <p:cNvPicPr/>
            <p:nvPr/>
          </p:nvPicPr>
          <p:blipFill>
            <a:blip r:embed="rId10"/>
            <a:stretch/>
          </p:blipFill>
          <p:spPr>
            <a:xfrm>
              <a:off x="4956120" y="2438280"/>
              <a:ext cx="1079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3098400">
              <a:off x="5177160" y="2810880"/>
              <a:ext cx="6048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Freccia a destra con strisce 59"/>
          <p:cNvGrpSpPr/>
          <p:nvPr/>
        </p:nvGrpSpPr>
        <p:grpSpPr>
          <a:xfrm>
            <a:off x="2736720" y="2438280"/>
            <a:ext cx="1079640" cy="1116000"/>
            <a:chOff x="2736720" y="2438280"/>
            <a:chExt cx="1079640" cy="1116000"/>
          </a:xfrm>
        </p:grpSpPr>
        <p:pic>
          <p:nvPicPr>
            <p:cNvPr id="210" name="Freccia a destra con strisce 59" descr=""/>
            <p:cNvPicPr/>
            <p:nvPr/>
          </p:nvPicPr>
          <p:blipFill>
            <a:blip r:embed="rId11"/>
            <a:stretch/>
          </p:blipFill>
          <p:spPr>
            <a:xfrm>
              <a:off x="2736720" y="2438280"/>
              <a:ext cx="10796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7701600">
              <a:off x="2995920" y="2810520"/>
              <a:ext cx="6048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Freccia bidirezionale orizzontale 52"/>
          <p:cNvGrpSpPr/>
          <p:nvPr/>
        </p:nvGrpSpPr>
        <p:grpSpPr>
          <a:xfrm>
            <a:off x="3986280" y="3687840"/>
            <a:ext cx="830160" cy="469800"/>
            <a:chOff x="3986280" y="3687840"/>
            <a:chExt cx="830160" cy="469800"/>
          </a:xfrm>
        </p:grpSpPr>
        <p:pic>
          <p:nvPicPr>
            <p:cNvPr id="213" name="Freccia bidirezionale orizzontale 52" descr=""/>
            <p:cNvPicPr/>
            <p:nvPr/>
          </p:nvPicPr>
          <p:blipFill>
            <a:blip r:embed="rId12"/>
            <a:stretch/>
          </p:blipFill>
          <p:spPr>
            <a:xfrm>
              <a:off x="3986280" y="3687840"/>
              <a:ext cx="83016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33880" y="3807000"/>
              <a:ext cx="5364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CasellaDiTesto 63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3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  <p:sp>
        <p:nvSpPr>
          <p:cNvPr id="217" name="Rettangolo 54"/>
          <p:cNvSpPr/>
          <p:nvPr/>
        </p:nvSpPr>
        <p:spPr>
          <a:xfrm>
            <a:off x="1356480" y="98100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…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ma anche pericolos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-3024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Rettangolo 7"/>
          <p:cNvSpPr/>
          <p:nvPr/>
        </p:nvSpPr>
        <p:spPr>
          <a:xfrm>
            <a:off x="1305000" y="620640"/>
            <a:ext cx="60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d56622"/>
                </a:solidFill>
                <a:latin typeface="Arial"/>
              </a:rPr>
              <a:t>Il Temp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d56622"/>
                </a:solidFill>
                <a:latin typeface="Arial"/>
              </a:rPr>
              <a:t>costo o investiment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Gruppo 6"/>
          <p:cNvGrpSpPr/>
          <p:nvPr/>
        </p:nvGrpSpPr>
        <p:grpSpPr>
          <a:xfrm>
            <a:off x="1305000" y="2133720"/>
            <a:ext cx="6219720" cy="3373200"/>
            <a:chOff x="1305000" y="2133720"/>
            <a:chExt cx="6219720" cy="3373200"/>
          </a:xfrm>
        </p:grpSpPr>
        <p:pic>
          <p:nvPicPr>
            <p:cNvPr id="221" name="Picture 2" descr=""/>
            <p:cNvPicPr/>
            <p:nvPr/>
          </p:nvPicPr>
          <p:blipFill>
            <a:blip r:embed="rId2"/>
            <a:stretch/>
          </p:blipFill>
          <p:spPr>
            <a:xfrm>
              <a:off x="1305000" y="2133720"/>
              <a:ext cx="6219720" cy="33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arentesi graffa aperta 9"/>
            <p:cNvSpPr/>
            <p:nvPr/>
          </p:nvSpPr>
          <p:spPr>
            <a:xfrm>
              <a:off x="5902560" y="3821040"/>
              <a:ext cx="269640" cy="1062000"/>
            </a:xfrm>
            <a:custGeom>
              <a:avLst/>
              <a:gdLst>
                <a:gd name="textAreaLeft" fmla="*/ 172440 w 269640"/>
                <a:gd name="textAreaRight" fmla="*/ 270000 w 269640"/>
                <a:gd name="textAreaTop" fmla="*/ 6480 h 1062000"/>
                <a:gd name="textAreaBottom" fmla="*/ 1055520 h 106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0"/>
                    <a:pt x="10800" y="439"/>
                  </a:cubicBezTo>
                  <a:lnTo>
                    <a:pt x="10800" y="10361"/>
                  </a:lnTo>
                  <a:cubicBezTo>
                    <a:pt x="10800" y="10581"/>
                    <a:pt x="5400" y="10800"/>
                    <a:pt x="0" y="10800"/>
                  </a:cubicBezTo>
                  <a:cubicBezTo>
                    <a:pt x="5400" y="10800"/>
                    <a:pt x="10800" y="11020"/>
                    <a:pt x="10800" y="11239"/>
                  </a:cubicBezTo>
                  <a:lnTo>
                    <a:pt x="10800" y="21161"/>
                  </a:lnTo>
                  <a:cubicBezTo>
                    <a:pt x="10800" y="21381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uppo 10"/>
            <p:cNvGrpSpPr/>
            <p:nvPr/>
          </p:nvGrpSpPr>
          <p:grpSpPr>
            <a:xfrm>
              <a:off x="3738600" y="3977640"/>
              <a:ext cx="1982880" cy="748800"/>
              <a:chOff x="3738600" y="3977640"/>
              <a:chExt cx="1982880" cy="748800"/>
            </a:xfrm>
          </p:grpSpPr>
          <p:sp>
            <p:nvSpPr>
              <p:cNvPr id="224" name="CasellaDiTesto 11"/>
              <p:cNvSpPr/>
              <p:nvPr/>
            </p:nvSpPr>
            <p:spPr>
              <a:xfrm>
                <a:off x="3738600" y="4004640"/>
                <a:ext cx="1679760" cy="596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2060"/>
                    </a:solidFill>
                    <a:latin typeface="Calibri"/>
                  </a:rPr>
                  <a:t>EFFETTO DELLA COMPRESSIONE DEI TEMPI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Callout con freccia a destra 12"/>
              <p:cNvSpPr/>
              <p:nvPr/>
            </p:nvSpPr>
            <p:spPr>
              <a:xfrm>
                <a:off x="3738600" y="3977640"/>
                <a:ext cx="1982880" cy="748800"/>
              </a:xfrm>
              <a:prstGeom prst="rightArrowCallout">
                <a:avLst>
                  <a:gd name="adj1" fmla="val 25002"/>
                  <a:gd name="adj2" fmla="val 25000"/>
                  <a:gd name="adj3" fmla="val 27057"/>
                  <a:gd name="adj4" fmla="val 81384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CasellaDiTesto 14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3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-3024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Rettangolo 7"/>
          <p:cNvSpPr/>
          <p:nvPr/>
        </p:nvSpPr>
        <p:spPr>
          <a:xfrm>
            <a:off x="1515960" y="836640"/>
            <a:ext cx="723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Nel rapporto con 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mandatari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Rettangolo arrotondato 8"/>
          <p:cNvGrpSpPr/>
          <p:nvPr/>
        </p:nvGrpSpPr>
        <p:grpSpPr>
          <a:xfrm>
            <a:off x="2571840" y="3468600"/>
            <a:ext cx="3779640" cy="665280"/>
            <a:chOff x="2571840" y="3468600"/>
            <a:chExt cx="3779640" cy="665280"/>
          </a:xfrm>
        </p:grpSpPr>
        <p:pic>
          <p:nvPicPr>
            <p:cNvPr id="231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2571840" y="3468600"/>
              <a:ext cx="37796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654280" y="3527280"/>
              <a:ext cx="36194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ggiore</a:t>
              </a: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GGRESSIVIT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Rettangolo arrotondato 9"/>
          <p:cNvGrpSpPr/>
          <p:nvPr/>
        </p:nvGrpSpPr>
        <p:grpSpPr>
          <a:xfrm>
            <a:off x="2571840" y="4121280"/>
            <a:ext cx="3779640" cy="658800"/>
            <a:chOff x="2571840" y="4121280"/>
            <a:chExt cx="3779640" cy="658800"/>
          </a:xfrm>
        </p:grpSpPr>
        <p:pic>
          <p:nvPicPr>
            <p:cNvPr id="234" name="Rettangolo arrotondato 9" descr=""/>
            <p:cNvPicPr/>
            <p:nvPr/>
          </p:nvPicPr>
          <p:blipFill>
            <a:blip r:embed="rId3"/>
            <a:stretch/>
          </p:blipFill>
          <p:spPr>
            <a:xfrm>
              <a:off x="2571840" y="4121280"/>
              <a:ext cx="377964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654280" y="4176720"/>
              <a:ext cx="36194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LAZIONE </a:t>
              </a:r>
              <a:r>
                <a:rPr b="0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ess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Rettangolo arrotondato 12"/>
          <p:cNvGrpSpPr/>
          <p:nvPr/>
        </p:nvGrpSpPr>
        <p:grpSpPr>
          <a:xfrm>
            <a:off x="4449600" y="5456160"/>
            <a:ext cx="2268720" cy="1023840"/>
            <a:chOff x="4449600" y="5456160"/>
            <a:chExt cx="2268720" cy="1023840"/>
          </a:xfrm>
        </p:grpSpPr>
        <p:pic>
          <p:nvPicPr>
            <p:cNvPr id="237" name="Rettangolo arrotondato 12" descr=""/>
            <p:cNvPicPr/>
            <p:nvPr/>
          </p:nvPicPr>
          <p:blipFill>
            <a:blip r:embed="rId4"/>
            <a:stretch/>
          </p:blipFill>
          <p:spPr>
            <a:xfrm>
              <a:off x="4449600" y="5456160"/>
              <a:ext cx="22687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545000" y="5556240"/>
              <a:ext cx="20764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ù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SCHIO REPUTAZION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Rettangolo arrotondato 13"/>
          <p:cNvGrpSpPr/>
          <p:nvPr/>
        </p:nvGrpSpPr>
        <p:grpSpPr>
          <a:xfrm>
            <a:off x="2212920" y="5456160"/>
            <a:ext cx="2262240" cy="1023840"/>
            <a:chOff x="2212920" y="5456160"/>
            <a:chExt cx="2262240" cy="1023840"/>
          </a:xfrm>
        </p:grpSpPr>
        <p:pic>
          <p:nvPicPr>
            <p:cNvPr id="240" name="Rettangolo arrotondato 13" descr=""/>
            <p:cNvPicPr/>
            <p:nvPr/>
          </p:nvPicPr>
          <p:blipFill>
            <a:blip r:embed="rId5"/>
            <a:stretch/>
          </p:blipFill>
          <p:spPr>
            <a:xfrm>
              <a:off x="2212920" y="5456160"/>
              <a:ext cx="22622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306520" y="5556240"/>
              <a:ext cx="2075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n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FICACI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Rettangolo arrotondato 18"/>
          <p:cNvGrpSpPr/>
          <p:nvPr/>
        </p:nvGrpSpPr>
        <p:grpSpPr>
          <a:xfrm>
            <a:off x="4443480" y="1816200"/>
            <a:ext cx="2262240" cy="914400"/>
            <a:chOff x="4443480" y="1816200"/>
            <a:chExt cx="2262240" cy="914400"/>
          </a:xfrm>
        </p:grpSpPr>
        <p:pic>
          <p:nvPicPr>
            <p:cNvPr id="243" name="Rettangolo arrotondato 18" descr=""/>
            <p:cNvPicPr/>
            <p:nvPr/>
          </p:nvPicPr>
          <p:blipFill>
            <a:blip r:embed="rId6"/>
            <a:stretch/>
          </p:blipFill>
          <p:spPr>
            <a:xfrm>
              <a:off x="4443480" y="1816200"/>
              <a:ext cx="2262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38520" y="1882800"/>
              <a:ext cx="2076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stema di Pri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Rettangolo arrotondato 19"/>
          <p:cNvGrpSpPr/>
          <p:nvPr/>
        </p:nvGrpSpPr>
        <p:grpSpPr>
          <a:xfrm>
            <a:off x="2219400" y="1816200"/>
            <a:ext cx="2260440" cy="914400"/>
            <a:chOff x="2219400" y="1816200"/>
            <a:chExt cx="2260440" cy="914400"/>
          </a:xfrm>
        </p:grpSpPr>
        <p:pic>
          <p:nvPicPr>
            <p:cNvPr id="246" name="Rettangolo arrotondato 19" descr=""/>
            <p:cNvPicPr/>
            <p:nvPr/>
          </p:nvPicPr>
          <p:blipFill>
            <a:blip r:embed="rId7"/>
            <a:stretch/>
          </p:blipFill>
          <p:spPr>
            <a:xfrm>
              <a:off x="2219400" y="1816200"/>
              <a:ext cx="2260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13000" y="1882800"/>
              <a:ext cx="2076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sione Risult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Freccia in giù 22"/>
          <p:cNvGrpSpPr/>
          <p:nvPr/>
        </p:nvGrpSpPr>
        <p:grpSpPr>
          <a:xfrm>
            <a:off x="3859200" y="4767120"/>
            <a:ext cx="1200240" cy="755640"/>
            <a:chOff x="3859200" y="4767120"/>
            <a:chExt cx="1200240" cy="755640"/>
          </a:xfrm>
        </p:grpSpPr>
        <p:pic>
          <p:nvPicPr>
            <p:cNvPr id="249" name="Freccia in giù 22" descr=""/>
            <p:cNvPicPr/>
            <p:nvPr/>
          </p:nvPicPr>
          <p:blipFill>
            <a:blip r:embed="rId8"/>
            <a:stretch/>
          </p:blipFill>
          <p:spPr>
            <a:xfrm>
              <a:off x="3859200" y="4767120"/>
              <a:ext cx="1200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184640" y="4797360"/>
              <a:ext cx="5461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Freccia in giù 11"/>
          <p:cNvGrpSpPr/>
          <p:nvPr/>
        </p:nvGrpSpPr>
        <p:grpSpPr>
          <a:xfrm>
            <a:off x="3859200" y="2749680"/>
            <a:ext cx="1200240" cy="761760"/>
            <a:chOff x="3859200" y="2749680"/>
            <a:chExt cx="1200240" cy="761760"/>
          </a:xfrm>
        </p:grpSpPr>
        <p:pic>
          <p:nvPicPr>
            <p:cNvPr id="252" name="Freccia in giù 11" descr=""/>
            <p:cNvPicPr/>
            <p:nvPr/>
          </p:nvPicPr>
          <p:blipFill>
            <a:blip r:embed="rId9"/>
            <a:stretch/>
          </p:blipFill>
          <p:spPr>
            <a:xfrm>
              <a:off x="3859200" y="2749680"/>
              <a:ext cx="12002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184640" y="2781360"/>
              <a:ext cx="5461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uppo 3"/>
          <p:cNvGrpSpPr/>
          <p:nvPr/>
        </p:nvGrpSpPr>
        <p:grpSpPr>
          <a:xfrm>
            <a:off x="6464880" y="595440"/>
            <a:ext cx="2678040" cy="2035080"/>
            <a:chOff x="6464880" y="595440"/>
            <a:chExt cx="2678040" cy="2035080"/>
          </a:xfrm>
        </p:grpSpPr>
        <p:pic>
          <p:nvPicPr>
            <p:cNvPr id="255" name="Picture 6" descr="http://wc1.smartdraw.com/examples/content/examples/09_collateral/signs/yellow_caution_sign_l.jpg"/>
            <p:cNvPicPr/>
            <p:nvPr/>
          </p:nvPicPr>
          <p:blipFill>
            <a:blip r:embed="rId10"/>
            <a:stretch/>
          </p:blipFill>
          <p:spPr>
            <a:xfrm rot="1483200">
              <a:off x="6587640" y="1052280"/>
              <a:ext cx="2432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ttangolo 1"/>
            <p:cNvSpPr/>
            <p:nvPr/>
          </p:nvSpPr>
          <p:spPr>
            <a:xfrm rot="1463400">
              <a:off x="6590160" y="1273680"/>
              <a:ext cx="2390760" cy="642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CasellaDiTesto 29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1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-3024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Rettangolo 7"/>
          <p:cNvSpPr/>
          <p:nvPr/>
        </p:nvSpPr>
        <p:spPr>
          <a:xfrm>
            <a:off x="1258920" y="2637000"/>
            <a:ext cx="72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Grazie per l’atten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asellaDiTesto 27"/>
          <p:cNvSpPr/>
          <p:nvPr/>
        </p:nvSpPr>
        <p:spPr>
          <a:xfrm>
            <a:off x="186120" y="646740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730520" y="64850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CasellaDiTesto 1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  <p:sp>
        <p:nvSpPr>
          <p:cNvPr id="48" name="Sottotitolo 2"/>
          <p:cNvSpPr/>
          <p:nvPr/>
        </p:nvSpPr>
        <p:spPr>
          <a:xfrm>
            <a:off x="871560" y="1362240"/>
            <a:ext cx="40608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Findomestic Banca è parte di </a:t>
            </a: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BNP Paribas, </a:t>
            </a: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Gruppo </a:t>
            </a: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leader nei servizi bancari e finanzia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BNP Paribas è </a:t>
            </a: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un operatore di primo piano </a:t>
            </a: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a livello mondiale, che basa la propria forza strategica su tre aree di attività complementar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Retail ban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Investment Solu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Corporate &amp; Investment Bank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La solidità di BNP Paribas è confermata dai </a:t>
            </a: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rating a lungo term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A+ per Standard &amp;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A1 per Moody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buClr>
                <a:srgbClr val="003c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A+ per Fit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BNP Paribas è presente in Italia dal 1967 ed è oggi conosciuta e apprezzata per la correttezza dei comportamenti e la professionalità dei dipendent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3c7a"/>
                </a:solidFill>
                <a:latin typeface="Verdana"/>
              </a:rPr>
              <a:t>Vicina al territorio, al sociale e alla cultura, mette a disposizione dei clienti italiani </a:t>
            </a: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una gamma completa di servizi e prodotti di qualità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ottotitolo 2"/>
          <p:cNvSpPr/>
          <p:nvPr/>
        </p:nvSpPr>
        <p:spPr>
          <a:xfrm>
            <a:off x="4903920" y="1305000"/>
            <a:ext cx="36288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3c7a"/>
                </a:solidFill>
                <a:latin typeface="Verdana"/>
              </a:rPr>
              <a:t>BNP Paribas nel mo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C:\Users\Sabrina\Desktop\Findomestic Brochure_PPT\Immagini\Pag_03b.jpg"/>
          <p:cNvPicPr/>
          <p:nvPr/>
        </p:nvPicPr>
        <p:blipFill>
          <a:blip r:embed="rId3"/>
          <a:stretch/>
        </p:blipFill>
        <p:spPr>
          <a:xfrm>
            <a:off x="5181480" y="4873680"/>
            <a:ext cx="356400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4946760" y="1660680"/>
          <a:ext cx="4097160" cy="3200400"/>
        </p:xfrm>
        <a:graphic>
          <a:graphicData uri="http://schemas.openxmlformats.org/drawingml/2006/table">
            <a:tbl>
              <a:tblPr/>
              <a:tblGrid>
                <a:gridCol w="1437480"/>
                <a:gridCol w="216000"/>
                <a:gridCol w="24436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38,8 miliar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liardi di margine di intermedi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91b44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185.000</a:t>
                      </a: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pendenti in 75 pae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91b44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3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ruppo bancario per ricavi in Ital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91b44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19.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pe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91b44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ie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 w="1440">
                      <a:solidFill>
                        <a:srgbClr val="7f7f7f"/>
                      </a:solidFill>
                    </a:lnB>
                    <a:solidFill>
                      <a:srgbClr val="91b44a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3c7a"/>
                          </a:solidFill>
                          <a:latin typeface="Verdana"/>
                        </a:rPr>
                        <a:t>Oltre 5 milion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 clienti tra individui e azien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91b44a"/>
                    </a:solidFill>
                  </a:tcPr>
                </a:tc>
              </a:tr>
            </a:tbl>
          </a:graphicData>
        </a:graphic>
      </p:graphicFrame>
      <p:sp>
        <p:nvSpPr>
          <p:cNvPr id="52" name="Segnaposto testo 4"/>
          <p:cNvSpPr/>
          <p:nvPr/>
        </p:nvSpPr>
        <p:spPr>
          <a:xfrm>
            <a:off x="1111320" y="826920"/>
            <a:ext cx="621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BNP Paribas nel mondo e in Ita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CasellaDiTesto 1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Segnaposto testo 4"/>
          <p:cNvSpPr/>
          <p:nvPr/>
        </p:nvSpPr>
        <p:spPr>
          <a:xfrm>
            <a:off x="1111320" y="826920"/>
            <a:ext cx="6218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Findomestic: numeri chi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C:\Users\Sabrina\Desktop\Findomestic Brochure_PPT\Immagini\fatto\Pag_08c ss.jpg"/>
          <p:cNvPicPr/>
          <p:nvPr/>
        </p:nvPicPr>
        <p:blipFill>
          <a:blip r:embed="rId3"/>
          <a:stretch/>
        </p:blipFill>
        <p:spPr>
          <a:xfrm>
            <a:off x="585720" y="2751120"/>
            <a:ext cx="3730680" cy="1335240"/>
          </a:xfrm>
          <a:prstGeom prst="rect">
            <a:avLst/>
          </a:prstGeom>
          <a:ln w="0">
            <a:noFill/>
          </a:ln>
        </p:spPr>
      </p:pic>
      <p:sp>
        <p:nvSpPr>
          <p:cNvPr id="58" name="Sottotitolo 2"/>
          <p:cNvSpPr/>
          <p:nvPr/>
        </p:nvSpPr>
        <p:spPr>
          <a:xfrm>
            <a:off x="611280" y="1943280"/>
            <a:ext cx="32925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Utile Netto Consolid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 mln di eur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C:\Users\Sabrina\Desktop\Findomestic Brochure_PPT\Immagini\fatto\Pag_08b ss.jpg"/>
          <p:cNvPicPr/>
          <p:nvPr/>
        </p:nvPicPr>
        <p:blipFill>
          <a:blip r:embed="rId4"/>
          <a:srcRect l="0" t="0" r="0" b="11094"/>
          <a:stretch/>
        </p:blipFill>
        <p:spPr>
          <a:xfrm>
            <a:off x="4800600" y="2738520"/>
            <a:ext cx="3889440" cy="1436760"/>
          </a:xfrm>
          <a:prstGeom prst="rect">
            <a:avLst/>
          </a:prstGeom>
          <a:ln w="0">
            <a:noFill/>
          </a:ln>
        </p:spPr>
      </p:pic>
      <p:sp>
        <p:nvSpPr>
          <p:cNvPr id="60" name="Sottotitolo 2"/>
          <p:cNvSpPr/>
          <p:nvPr/>
        </p:nvSpPr>
        <p:spPr>
          <a:xfrm>
            <a:off x="684360" y="2751120"/>
            <a:ext cx="5745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ottotitolo 2"/>
          <p:cNvSpPr/>
          <p:nvPr/>
        </p:nvSpPr>
        <p:spPr>
          <a:xfrm>
            <a:off x="4905360" y="2735280"/>
            <a:ext cx="57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ottotitolo 2"/>
          <p:cNvSpPr/>
          <p:nvPr/>
        </p:nvSpPr>
        <p:spPr>
          <a:xfrm>
            <a:off x="2947680" y="2663280"/>
            <a:ext cx="43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82,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ottotitolo 2"/>
          <p:cNvSpPr/>
          <p:nvPr/>
        </p:nvSpPr>
        <p:spPr>
          <a:xfrm>
            <a:off x="7424640" y="3776760"/>
            <a:ext cx="5652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Verdana"/>
              </a:rPr>
              <a:t>10,7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ottotitolo 2"/>
          <p:cNvSpPr/>
          <p:nvPr/>
        </p:nvSpPr>
        <p:spPr>
          <a:xfrm>
            <a:off x="5724360" y="3987720"/>
            <a:ext cx="1265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7bf0d"/>
                </a:solidFill>
                <a:latin typeface="Verdana"/>
              </a:rPr>
              <a:t>Costo del Rischio 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ottotitolo 2"/>
          <p:cNvSpPr/>
          <p:nvPr/>
        </p:nvSpPr>
        <p:spPr>
          <a:xfrm>
            <a:off x="5942160" y="2739960"/>
            <a:ext cx="628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2,7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ottotitolo 2"/>
          <p:cNvSpPr/>
          <p:nvPr/>
        </p:nvSpPr>
        <p:spPr>
          <a:xfrm>
            <a:off x="6013440" y="3171960"/>
            <a:ext cx="630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3,21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ottotitolo 2"/>
          <p:cNvSpPr/>
          <p:nvPr/>
        </p:nvSpPr>
        <p:spPr>
          <a:xfrm>
            <a:off x="6111720" y="3603600"/>
            <a:ext cx="6303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3,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ottotitolo 2"/>
          <p:cNvSpPr/>
          <p:nvPr/>
        </p:nvSpPr>
        <p:spPr>
          <a:xfrm>
            <a:off x="4748040" y="2556000"/>
            <a:ext cx="243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7bf0d"/>
                </a:solidFill>
                <a:latin typeface="Verdana"/>
              </a:rPr>
              <a:t>Crediti medi gestiti verso i clien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ottotitolo 2"/>
          <p:cNvSpPr/>
          <p:nvPr/>
        </p:nvSpPr>
        <p:spPr>
          <a:xfrm>
            <a:off x="7040520" y="4137120"/>
            <a:ext cx="1320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Quota di mercato  Findomest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+0,7% </a:t>
            </a: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vs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ottotitolo 2"/>
          <p:cNvSpPr/>
          <p:nvPr/>
        </p:nvSpPr>
        <p:spPr>
          <a:xfrm>
            <a:off x="5445000" y="5477040"/>
            <a:ext cx="3699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I dati sono comprensivi dei valori di Credirama, società controllata al 51% da Findomestic Banca e di BF5, società incorporata da Findomestic a partire dal 1 giugno 201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ottotitolo 2"/>
          <p:cNvSpPr/>
          <p:nvPr/>
        </p:nvSpPr>
        <p:spPr>
          <a:xfrm>
            <a:off x="4745160" y="1943280"/>
            <a:ext cx="31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Impieghi e peso del Rischio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 mld di euro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ottotitolo 2"/>
          <p:cNvSpPr/>
          <p:nvPr/>
        </p:nvSpPr>
        <p:spPr>
          <a:xfrm>
            <a:off x="3580200" y="3071160"/>
            <a:ext cx="503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109,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ottotitolo 2"/>
          <p:cNvSpPr/>
          <p:nvPr/>
        </p:nvSpPr>
        <p:spPr>
          <a:xfrm>
            <a:off x="3185640" y="3522240"/>
            <a:ext cx="43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93,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ottotitolo 2"/>
          <p:cNvSpPr/>
          <p:nvPr/>
        </p:nvSpPr>
        <p:spPr>
          <a:xfrm>
            <a:off x="7799760" y="2663280"/>
            <a:ext cx="43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10,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ottotitolo 2"/>
          <p:cNvSpPr/>
          <p:nvPr/>
        </p:nvSpPr>
        <p:spPr>
          <a:xfrm>
            <a:off x="7959240" y="3071160"/>
            <a:ext cx="43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10,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ottotitolo 2"/>
          <p:cNvSpPr/>
          <p:nvPr/>
        </p:nvSpPr>
        <p:spPr>
          <a:xfrm>
            <a:off x="8038080" y="3522240"/>
            <a:ext cx="432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Verdana"/>
              </a:rPr>
              <a:t>10,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 Box 3"/>
          <p:cNvSpPr/>
          <p:nvPr/>
        </p:nvSpPr>
        <p:spPr>
          <a:xfrm>
            <a:off x="1258920" y="1916280"/>
            <a:ext cx="496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Sostenere 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il Costo del Rischio è fortemente influenzato dalle «performances di efficacia»  della catena recup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4a8e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4a8e"/>
                </a:solidFill>
                <a:latin typeface="Arial"/>
              </a:rPr>
              <a:t>dalla soft collection al contenzioso)</a:t>
            </a: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è come dire ch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5815080" y="3541680"/>
            <a:ext cx="3206520" cy="3200400"/>
          </a:xfrm>
          <a:prstGeom prst="rect">
            <a:avLst/>
          </a:prstGeom>
          <a:ln w="0">
            <a:noFill/>
          </a:ln>
        </p:spPr>
      </p:pic>
      <p:sp>
        <p:nvSpPr>
          <p:cNvPr id="80" name="Rettangolo 1"/>
          <p:cNvSpPr/>
          <p:nvPr/>
        </p:nvSpPr>
        <p:spPr>
          <a:xfrm>
            <a:off x="1258920" y="9079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Performance e Costo del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asellaDiTesto 1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1"/>
          <p:cNvSpPr/>
          <p:nvPr/>
        </p:nvSpPr>
        <p:spPr>
          <a:xfrm>
            <a:off x="1187280" y="9619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Performances di 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efficacia</a:t>
            </a: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814400" y="2286000"/>
          <a:ext cx="4024440" cy="1854360"/>
        </p:xfrm>
        <a:graphic>
          <a:graphicData uri="http://schemas.openxmlformats.org/drawingml/2006/table">
            <a:tbl>
              <a:tblPr/>
              <a:tblGrid>
                <a:gridCol w="660600"/>
                <a:gridCol w="582480"/>
                <a:gridCol w="665280"/>
                <a:gridCol w="666720"/>
                <a:gridCol w="665280"/>
                <a:gridCol w="78408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M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M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M+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Coef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Rit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Rit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Rit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Rit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6" name="Rettangolo arrotondato 11"/>
          <p:cNvSpPr/>
          <p:nvPr/>
        </p:nvSpPr>
        <p:spPr>
          <a:xfrm>
            <a:off x="4449600" y="3821040"/>
            <a:ext cx="57636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ttangolo arrotondato 12"/>
          <p:cNvSpPr/>
          <p:nvPr/>
        </p:nvSpPr>
        <p:spPr>
          <a:xfrm>
            <a:off x="2471760" y="2698920"/>
            <a:ext cx="57636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ccia circolare in su 13"/>
          <p:cNvSpPr/>
          <p:nvPr/>
        </p:nvSpPr>
        <p:spPr>
          <a:xfrm rot="12820800">
            <a:off x="2885760" y="2823480"/>
            <a:ext cx="2120760" cy="484200"/>
          </a:xfrm>
          <a:custGeom>
            <a:avLst/>
            <a:gdLst>
              <a:gd name="textAreaLeft" fmla="*/ 484560 w 2120760"/>
              <a:gd name="textAreaRight" fmla="*/ 1575360 w 21207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76" hR="21600" stAng="10800000" swAng="-5400000"/>
                <a:lnTo>
                  <a:pt x="11108" y="21600"/>
                </a:lnTo>
                <a:arcTo wR="9876" hR="21600" stAng="5400000" swAng="-3632689"/>
                <a:lnTo>
                  <a:pt x="21286" y="5400"/>
                </a:lnTo>
                <a:lnTo>
                  <a:pt x="20367" y="0"/>
                </a:lnTo>
                <a:lnTo>
                  <a:pt x="18820" y="5400"/>
                </a:lnTo>
                <a:lnTo>
                  <a:pt x="19437" y="5400"/>
                </a:lnTo>
                <a:arcTo wR="9876" hR="21600" stAng="1767311" swAng="3534485"/>
                <a:lnTo>
                  <a:pt x="10491" y="21558"/>
                </a:lnTo>
                <a:arcTo wR="9876" hR="21600" stAng="5498204" swAng="5301796"/>
                <a:close/>
              </a:path>
              <a:path fill="darkenLess" w="21600" h="21600">
                <a:moveTo>
                  <a:pt x="0" y="0"/>
                </a:moveTo>
                <a:arcTo wR="9876" hR="21600" stAng="10800000" swAng="-5400000"/>
                <a:lnTo>
                  <a:pt x="11108" y="21600"/>
                </a:lnTo>
                <a:arcTo wR="9876" hR="21600" stAng="5400000" swAng="98204"/>
                <a:lnTo>
                  <a:pt x="10491" y="21558"/>
                </a:lnTo>
                <a:arcTo wR="9876" hR="21600" stAng="5498204" swAng="5301796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arentesi graffa aperta 1"/>
          <p:cNvSpPr/>
          <p:nvPr/>
        </p:nvSpPr>
        <p:spPr>
          <a:xfrm rot="16200000">
            <a:off x="3612960" y="3024000"/>
            <a:ext cx="271440" cy="2554200"/>
          </a:xfrm>
          <a:custGeom>
            <a:avLst/>
            <a:gdLst>
              <a:gd name="textAreaLeft" fmla="*/ 173520 w 271440"/>
              <a:gd name="textAreaRight" fmla="*/ 271800 w 271440"/>
              <a:gd name="textAreaTop" fmla="*/ 6840 h 2554200"/>
              <a:gd name="textAreaBottom" fmla="*/ 254736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532"/>
                </a:lnTo>
                <a:cubicBezTo>
                  <a:pt x="10800" y="10628"/>
                  <a:pt x="5400" y="10723"/>
                  <a:pt x="0" y="10723"/>
                </a:cubicBezTo>
                <a:cubicBezTo>
                  <a:pt x="5400" y="10723"/>
                  <a:pt x="10800" y="10819"/>
                  <a:pt x="10800" y="10914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arentesi graffa chiusa 3"/>
          <p:cNvSpPr/>
          <p:nvPr/>
        </p:nvSpPr>
        <p:spPr>
          <a:xfrm>
            <a:off x="5846760" y="2698920"/>
            <a:ext cx="287280" cy="14112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1411200"/>
              <a:gd name="textAreaBottom" fmla="*/ 1404000 h 141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4"/>
                  <a:pt x="10800" y="367"/>
                </a:cubicBezTo>
                <a:lnTo>
                  <a:pt x="10800" y="10433"/>
                </a:lnTo>
                <a:cubicBezTo>
                  <a:pt x="10800" y="10617"/>
                  <a:pt x="16200" y="10800"/>
                  <a:pt x="21600" y="10800"/>
                </a:cubicBezTo>
                <a:cubicBezTo>
                  <a:pt x="16200" y="10800"/>
                  <a:pt x="10800" y="10984"/>
                  <a:pt x="10800" y="11167"/>
                </a:cubicBezTo>
                <a:lnTo>
                  <a:pt x="10800" y="21233"/>
                </a:lnTo>
                <a:cubicBezTo>
                  <a:pt x="10800" y="21417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CasellaDiTesto 5"/>
          <p:cNvSpPr/>
          <p:nvPr/>
        </p:nvSpPr>
        <p:spPr>
          <a:xfrm>
            <a:off x="3170880" y="446400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4a8e"/>
                </a:solidFill>
                <a:latin typeface="Arial"/>
              </a:rPr>
              <a:t>Effica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asellaDiTesto 21"/>
          <p:cNvSpPr/>
          <p:nvPr/>
        </p:nvSpPr>
        <p:spPr>
          <a:xfrm>
            <a:off x="6216840" y="320364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4a8e"/>
                </a:solidFill>
                <a:latin typeface="Arial"/>
              </a:rPr>
              <a:t>Costo del Ris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asellaDiTesto 25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-3636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ttangolo 1"/>
          <p:cNvSpPr/>
          <p:nvPr/>
        </p:nvSpPr>
        <p:spPr>
          <a:xfrm>
            <a:off x="1187280" y="9619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L’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effica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uppo 10"/>
          <p:cNvGrpSpPr/>
          <p:nvPr/>
        </p:nvGrpSpPr>
        <p:grpSpPr>
          <a:xfrm>
            <a:off x="3203640" y="836640"/>
            <a:ext cx="5832360" cy="2149560"/>
            <a:chOff x="3203640" y="836640"/>
            <a:chExt cx="5832360" cy="2149560"/>
          </a:xfrm>
        </p:grpSpPr>
        <p:pic>
          <p:nvPicPr>
            <p:cNvPr id="98" name="Picture 14" descr="http://www.0900incasso.nl/files/2012/11/incasso-home.png"/>
            <p:cNvPicPr/>
            <p:nvPr/>
          </p:nvPicPr>
          <p:blipFill>
            <a:blip r:embed="rId2"/>
            <a:stretch/>
          </p:blipFill>
          <p:spPr>
            <a:xfrm>
              <a:off x="5898240" y="836640"/>
              <a:ext cx="285660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CasellaDiTesto 12"/>
            <p:cNvSpPr/>
            <p:nvPr/>
          </p:nvSpPr>
          <p:spPr>
            <a:xfrm>
              <a:off x="3704760" y="1097280"/>
              <a:ext cx="15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4a8e"/>
                  </a:solidFill>
                  <a:latin typeface="Arial"/>
                </a:rPr>
                <a:t>Inca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ttangolo arrotondato 3"/>
            <p:cNvSpPr/>
            <p:nvPr/>
          </p:nvSpPr>
          <p:spPr>
            <a:xfrm>
              <a:off x="3203640" y="836640"/>
              <a:ext cx="5832360" cy="2149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4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Rettangolo arrotondato 9"/>
          <p:cNvGrpSpPr/>
          <p:nvPr/>
        </p:nvGrpSpPr>
        <p:grpSpPr>
          <a:xfrm>
            <a:off x="3456000" y="1725480"/>
            <a:ext cx="2085840" cy="749520"/>
            <a:chOff x="3456000" y="1725480"/>
            <a:chExt cx="2085840" cy="749520"/>
          </a:xfrm>
        </p:grpSpPr>
        <p:pic>
          <p:nvPicPr>
            <p:cNvPr id="102" name="Rettangolo arrotondato 9" descr=""/>
            <p:cNvPicPr/>
            <p:nvPr/>
          </p:nvPicPr>
          <p:blipFill>
            <a:blip r:embed="rId3"/>
            <a:stretch/>
          </p:blipFill>
          <p:spPr>
            <a:xfrm>
              <a:off x="3456000" y="1725480"/>
              <a:ext cx="208584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35200" y="1797120"/>
              <a:ext cx="1924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solvia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uppo 11"/>
          <p:cNvGrpSpPr/>
          <p:nvPr/>
        </p:nvGrpSpPr>
        <p:grpSpPr>
          <a:xfrm>
            <a:off x="0" y="2678040"/>
            <a:ext cx="5997600" cy="2075040"/>
            <a:chOff x="0" y="2678040"/>
            <a:chExt cx="5997600" cy="2075040"/>
          </a:xfrm>
        </p:grpSpPr>
        <p:sp>
          <p:nvSpPr>
            <p:cNvPr id="105" name="Rettangolo arrotondato 5"/>
            <p:cNvSpPr/>
            <p:nvPr/>
          </p:nvSpPr>
          <p:spPr>
            <a:xfrm>
              <a:off x="0" y="2678040"/>
              <a:ext cx="5997600" cy="2075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4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Picture 2" descr=""/>
            <p:cNvPicPr/>
            <p:nvPr/>
          </p:nvPicPr>
          <p:blipFill>
            <a:blip r:embed="rId4"/>
            <a:stretch/>
          </p:blipFill>
          <p:spPr>
            <a:xfrm>
              <a:off x="277920" y="2770200"/>
              <a:ext cx="2714760" cy="18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CasellaDiTesto 2"/>
            <p:cNvSpPr/>
            <p:nvPr/>
          </p:nvSpPr>
          <p:spPr>
            <a:xfrm>
              <a:off x="3004920" y="2853000"/>
              <a:ext cx="29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4a8e"/>
                  </a:solidFill>
                  <a:latin typeface="Arial"/>
                </a:rPr>
                <a:t>Ristrutturaz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Rettangolo arrotondato 21"/>
          <p:cNvGrpSpPr/>
          <p:nvPr/>
        </p:nvGrpSpPr>
        <p:grpSpPr>
          <a:xfrm>
            <a:off x="3402000" y="3456000"/>
            <a:ext cx="2163600" cy="750960"/>
            <a:chOff x="3402000" y="3456000"/>
            <a:chExt cx="2163600" cy="750960"/>
          </a:xfrm>
        </p:grpSpPr>
        <p:pic>
          <p:nvPicPr>
            <p:cNvPr id="109" name="Rettangolo arrotondato 21" descr=""/>
            <p:cNvPicPr/>
            <p:nvPr/>
          </p:nvPicPr>
          <p:blipFill>
            <a:blip r:embed="rId5"/>
            <a:stretch/>
          </p:blipFill>
          <p:spPr>
            <a:xfrm>
              <a:off x="3402000" y="3456000"/>
              <a:ext cx="21636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533760" y="3530520"/>
              <a:ext cx="19242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solviamo</a:t>
              </a:r>
              <a:r>
                <a:rPr b="0" lang="it-IT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uppo 13"/>
          <p:cNvGrpSpPr/>
          <p:nvPr/>
        </p:nvGrpSpPr>
        <p:grpSpPr>
          <a:xfrm>
            <a:off x="3203640" y="4519440"/>
            <a:ext cx="5832360" cy="2149560"/>
            <a:chOff x="3203640" y="4519440"/>
            <a:chExt cx="5832360" cy="2149560"/>
          </a:xfrm>
        </p:grpSpPr>
        <p:sp>
          <p:nvSpPr>
            <p:cNvPr id="112" name="Rettangolo arrotondato 22"/>
            <p:cNvSpPr/>
            <p:nvPr/>
          </p:nvSpPr>
          <p:spPr>
            <a:xfrm>
              <a:off x="3203640" y="4519440"/>
              <a:ext cx="5832360" cy="214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4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CasellaDiTesto 23"/>
            <p:cNvSpPr/>
            <p:nvPr/>
          </p:nvSpPr>
          <p:spPr>
            <a:xfrm>
              <a:off x="3695040" y="4695120"/>
              <a:ext cx="144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4a8e"/>
                  </a:solidFill>
                  <a:latin typeface="Arial"/>
                </a:rPr>
                <a:t>Ripor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Picture 16" descr="http://valdarial12.files.wordpress.com/2012/06/jump_exercise_health_sun_mountain1.jpg"/>
            <p:cNvPicPr/>
            <p:nvPr/>
          </p:nvPicPr>
          <p:blipFill>
            <a:blip r:embed="rId6"/>
            <a:stretch/>
          </p:blipFill>
          <p:spPr>
            <a:xfrm>
              <a:off x="5779080" y="4676400"/>
              <a:ext cx="309564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Rettangolo arrotondato 24"/>
          <p:cNvGrpSpPr/>
          <p:nvPr/>
        </p:nvGrpSpPr>
        <p:grpSpPr>
          <a:xfrm>
            <a:off x="3389400" y="5297400"/>
            <a:ext cx="2182680" cy="749520"/>
            <a:chOff x="3389400" y="5297400"/>
            <a:chExt cx="2182680" cy="749520"/>
          </a:xfrm>
        </p:grpSpPr>
        <p:pic>
          <p:nvPicPr>
            <p:cNvPr id="116" name="Rettangolo arrotondato 24" descr=""/>
            <p:cNvPicPr/>
            <p:nvPr/>
          </p:nvPicPr>
          <p:blipFill>
            <a:blip r:embed="rId7"/>
            <a:stretch/>
          </p:blipFill>
          <p:spPr>
            <a:xfrm>
              <a:off x="3389400" y="5297400"/>
              <a:ext cx="2182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3516480" y="5367240"/>
              <a:ext cx="19256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mandia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uppo 17"/>
          <p:cNvGrpSpPr/>
          <p:nvPr/>
        </p:nvGrpSpPr>
        <p:grpSpPr>
          <a:xfrm>
            <a:off x="189000" y="3041640"/>
            <a:ext cx="8694720" cy="1454040"/>
            <a:chOff x="189000" y="3041640"/>
            <a:chExt cx="8694720" cy="1454040"/>
          </a:xfrm>
        </p:grpSpPr>
        <p:pic>
          <p:nvPicPr>
            <p:cNvPr id="119" name="Gruppo 29" descr=""/>
            <p:cNvPicPr/>
            <p:nvPr/>
          </p:nvPicPr>
          <p:blipFill>
            <a:blip r:embed="rId8"/>
            <a:stretch/>
          </p:blipFill>
          <p:spPr>
            <a:xfrm>
              <a:off x="7547040" y="3041640"/>
              <a:ext cx="133488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Gruppo 32" descr=""/>
            <p:cNvPicPr/>
            <p:nvPr/>
          </p:nvPicPr>
          <p:blipFill>
            <a:blip r:embed="rId9"/>
            <a:stretch/>
          </p:blipFill>
          <p:spPr>
            <a:xfrm>
              <a:off x="7540920" y="3857040"/>
              <a:ext cx="1334880" cy="6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Connettore 1 15"/>
            <p:cNvSpPr/>
            <p:nvPr/>
          </p:nvSpPr>
          <p:spPr>
            <a:xfrm>
              <a:off x="189000" y="3768480"/>
              <a:ext cx="86947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CasellaDiTesto 39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0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ttangolo 1"/>
          <p:cNvSpPr/>
          <p:nvPr/>
        </p:nvSpPr>
        <p:spPr>
          <a:xfrm>
            <a:off x="1187280" y="9619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L’</a:t>
            </a:r>
            <a:r>
              <a:rPr b="1" lang="it-IT" sz="2800" spc="-1" strike="noStrike">
                <a:solidFill>
                  <a:srgbClr val="d56622"/>
                </a:solidFill>
                <a:latin typeface="Arial"/>
              </a:rPr>
              <a:t>efficacia …r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Diagramma 7" descr=""/>
          <p:cNvPicPr/>
          <p:nvPr/>
        </p:nvPicPr>
        <p:blipFill>
          <a:blip r:embed="rId2"/>
          <a:stretch/>
        </p:blipFill>
        <p:spPr>
          <a:xfrm>
            <a:off x="396720" y="2103480"/>
            <a:ext cx="8204400" cy="2906640"/>
          </a:xfrm>
          <a:prstGeom prst="rect">
            <a:avLst/>
          </a:prstGeom>
          <a:ln w="0">
            <a:noFill/>
          </a:ln>
        </p:spPr>
      </p:pic>
      <p:sp>
        <p:nvSpPr>
          <p:cNvPr id="127" name="CasellaDiTesto 15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ttangolo 1"/>
          <p:cNvSpPr/>
          <p:nvPr/>
        </p:nvSpPr>
        <p:spPr>
          <a:xfrm>
            <a:off x="118728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Come mirare all’EFFICACIA REALE in un sistema sempre più compless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75040" y="3106800"/>
            <a:ext cx="47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4a8e"/>
                </a:solidFill>
                <a:latin typeface="Arial"/>
              </a:rPr>
              <a:t>Sono più i clienti che </a:t>
            </a:r>
            <a:r>
              <a:rPr b="1" i="1" lang="it-IT" sz="2000" spc="-1" strike="noStrike">
                <a:solidFill>
                  <a:srgbClr val="004a8e"/>
                </a:solidFill>
                <a:latin typeface="Arial"/>
              </a:rPr>
              <a:t>NON POSSONO </a:t>
            </a:r>
            <a:r>
              <a:rPr b="0" i="1" lang="it-IT" sz="2000" spc="-1" strike="noStrike">
                <a:solidFill>
                  <a:srgbClr val="004a8e"/>
                </a:solidFill>
                <a:latin typeface="Arial"/>
              </a:rPr>
              <a:t>pagare rispetto quelli che </a:t>
            </a:r>
            <a:r>
              <a:rPr b="1" i="1" lang="it-IT" sz="2000" spc="-1" strike="noStrike">
                <a:solidFill>
                  <a:srgbClr val="004a8e"/>
                </a:solidFill>
                <a:latin typeface="Arial"/>
              </a:rPr>
              <a:t>NON VOGLI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971640" y="2217600"/>
            <a:ext cx="2671560" cy="1927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3" name="Text Box 3"/>
          <p:cNvSpPr/>
          <p:nvPr/>
        </p:nvSpPr>
        <p:spPr>
          <a:xfrm>
            <a:off x="971640" y="4419720"/>
            <a:ext cx="475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2) </a:t>
            </a: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in un </a:t>
            </a:r>
            <a:r>
              <a:rPr b="1" lang="it-IT" sz="2800" spc="-1" strike="noStrike">
                <a:solidFill>
                  <a:srgbClr val="004a8e"/>
                </a:solidFill>
                <a:latin typeface="Arial"/>
              </a:rPr>
              <a:t>quadro normativo </a:t>
            </a:r>
            <a:r>
              <a:rPr b="0" lang="it-IT" sz="2800" spc="-1" strike="noStrike">
                <a:solidFill>
                  <a:srgbClr val="004a8e"/>
                </a:solidFill>
                <a:latin typeface="Arial"/>
              </a:rPr>
              <a:t>di riferimento</a:t>
            </a:r>
            <a:r>
              <a:rPr b="1" lang="it-IT" sz="2800" spc="-1" strike="noStrike">
                <a:solidFill>
                  <a:srgbClr val="004a8e"/>
                </a:solidFill>
                <a:latin typeface="Arial"/>
              </a:rPr>
              <a:t> sempre più restrit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75040" y="216684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00000"/>
                </a:solidFill>
                <a:latin typeface="Arial"/>
              </a:rPr>
              <a:t>1) </a:t>
            </a:r>
            <a:r>
              <a:rPr b="1" lang="it-IT" sz="2800" spc="-1" strike="noStrike">
                <a:solidFill>
                  <a:srgbClr val="004a8e"/>
                </a:solidFill>
                <a:latin typeface="Arial"/>
              </a:rPr>
              <a:t>in un contesto economico deterio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8" descr="http://www.creditspa.it/files/image/normativa.jpg"/>
          <p:cNvPicPr/>
          <p:nvPr/>
        </p:nvPicPr>
        <p:blipFill>
          <a:blip r:embed="rId3"/>
          <a:stretch/>
        </p:blipFill>
        <p:spPr>
          <a:xfrm>
            <a:off x="5889600" y="4370400"/>
            <a:ext cx="2714760" cy="1457280"/>
          </a:xfrm>
          <a:prstGeom prst="rect">
            <a:avLst/>
          </a:prstGeom>
          <a:ln w="1260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6" name="CasellaDiTesto 9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4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0" y="-333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2611440" y="1484280"/>
            <a:ext cx="3672000" cy="2446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990720" y="40273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2060"/>
                </a:solidFill>
                <a:latin typeface="Arial"/>
              </a:rPr>
              <a:t>«Il cliente in difficoltà…non lo sarà per sempre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ttangolo 1"/>
          <p:cNvSpPr/>
          <p:nvPr/>
        </p:nvSpPr>
        <p:spPr>
          <a:xfrm>
            <a:off x="1187280" y="476280"/>
            <a:ext cx="77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56622"/>
                </a:solidFill>
                <a:latin typeface="Arial"/>
              </a:rPr>
              <a:t>Come mirare all’EFFICACIA REALE in un sistema sempre più complesso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asellaDiTesto 10"/>
          <p:cNvSpPr/>
          <p:nvPr/>
        </p:nvSpPr>
        <p:spPr>
          <a:xfrm>
            <a:off x="186120" y="6329520"/>
            <a:ext cx="153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4a8e"/>
                </a:solidFill>
                <a:latin typeface="Arial"/>
                <a:ea typeface="Arial"/>
              </a:rPr>
              <a:t>Angelo Pia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3"/>
          <a:stretch/>
        </p:blipFill>
        <p:spPr>
          <a:xfrm>
            <a:off x="1730520" y="6348240"/>
            <a:ext cx="1176120" cy="328680"/>
          </a:xfrm>
          <a:prstGeom prst="rect">
            <a:avLst/>
          </a:prstGeom>
          <a:ln w="0">
            <a:noFill/>
          </a:ln>
        </p:spPr>
      </p:pic>
      <p:sp>
        <p:nvSpPr>
          <p:cNvPr id="144" name="Rettangolo 1"/>
          <p:cNvSpPr/>
          <p:nvPr/>
        </p:nvSpPr>
        <p:spPr>
          <a:xfrm>
            <a:off x="576360" y="4508640"/>
            <a:ext cx="77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Arial"/>
              </a:rPr>
              <a:t>Sviluppare la qualità d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2060"/>
                </a:solidFill>
                <a:latin typeface="Arial"/>
              </a:rPr>
              <a:t>RELAZIONE con i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6:38:57Z</dcterms:created>
  <dc:creator>lisa piccolo frate</dc:creator>
  <dc:description/>
  <dc:language>en-US</dc:language>
  <cp:lastModifiedBy>Chiara Riefoli</cp:lastModifiedBy>
  <dcterms:modified xsi:type="dcterms:W3CDTF">2014-11-10T14:10:00Z</dcterms:modified>
  <cp:revision>76</cp:revision>
  <dc:subject/>
  <dc:title>PowerPoint Presentation</dc:title>
</cp:coreProperties>
</file>